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274-0795-4D8F-9832-8B8E2008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F9D-5758-47C9-A9D0-C1D0CD1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6B32-6073-4A05-A0D0-74CFC020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D8D-F985-4833-BBE9-BA22C174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208E-F99A-4FE8-8216-425D1EE9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7D8F-9890-41B9-8268-E10EFABB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1D58-CE0F-4C5C-965E-2BCB4310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175E-CB1B-4556-A07B-2EC56CD5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1349-A047-45C6-87DA-21D27954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8EBD-7AB8-49D2-BC83-EA3506B6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5399-8AA6-4621-BB78-E3225035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AB5-EA69-430F-820D-5CCE37E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50E1-36A4-4840-B3CF-739C8558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CFE9-3688-4E07-87EC-74AF20F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FF61-25BB-4F14-B5B4-BF71DBDD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D300-3364-4786-BDDE-509F7215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00E5-3516-4D24-9E9D-9F1CE893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549-CF8A-45EF-8B5B-1DD5673B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CB7-7E05-45B0-BE4D-A922C98C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7E9-D309-4ECC-9755-4A355C3A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8F37-0A62-481A-B11C-CC3A22C3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221-E786-430E-BCD3-869897ED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DC92-D019-4516-AD18-F0F2E6FD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583-FD4A-484A-8F3F-DDF170EC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dddddd"/>
                </a:gs>
                <a:gs pos="100000">
                  <a:srgbClr val="bbbb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5f5f5f"/>
                </a:gs>
                <a:gs pos="100000">
                  <a:srgbClr val="9191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191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5f5f5f"/>
                </a:gs>
                <a:gs pos="100000">
                  <a:srgbClr val="9191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1919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4DD-F04C-4EBB-824B-AD39B5877A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bbbbb"/>
                </a:gs>
                <a:gs pos="50000">
                  <a:srgbClr val="dddddd"/>
                </a:gs>
                <a:gs pos="100000">
                  <a:srgbClr val="bbbb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5f5f5f"/>
                </a:gs>
                <a:gs pos="100000">
                  <a:srgbClr val="9191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191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5f5f5f"/>
                </a:gs>
                <a:gs pos="100000">
                  <a:srgbClr val="9191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1919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AFBD-A8F4-4294-959E-36A2425F8C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направления исследований в области искусственного интелл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 Обучение и самообу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ает модели, методы и алгоритмы, ориентированные на автоматическое накопление и формирование знаний на основе анализа и обобщения данных. Включает обучение по примерам (или индуктивное), а также традиционные подходы из теории распознавания образ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ние годы к этому направлению тесно примыкают стремительно развивающиеся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inin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анализа данных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discovery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поиска закономерностей в база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Распознавание обра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диционно — одно из направлений искусственного интеллекта, берущее начало у самых его истоков, но в настоящее время практически выделившееся в са­мостоятельную нау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е основной подход — описани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ассов объект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определенные значения значимых признаков. Каждому объекту ставится в соответствие матрица признаков, по которой происходит его распознавание. Процедура распознавания использует чаще всего специальные математические процедуры и функции, разделяющие объекты на классы. Это направление близко к машинному обучению и тесно связано с нейрокиберне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ы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ьютер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е современные процессоры сегодня основаны на традиционной последовательной архитектуре фон Неймана, используемой еще в компьютерах первых поколений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Эта архитектура крайне неэффективна для символьной обрабо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ому усилия нацелены на разработку аппаратных архитектур, предназначенных для обработки сим­вольных и логических данных. Создаются Пролог- и Лисп-машины, компьюте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олений. Последние разработки посвящены компьютерам баз данных, параллельным и векторным компьютер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хотя удачные промышленные решения существуют, высокая стоимость, недостаточное программное оснащение и аппаратная несовместимость с традицион­ными компьютерами существенно тормозят широкое использование новых архите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Игры и машинное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заре исследований ИИ традиционно включал в себя игровые интеллектуальные задачи — шахматы, шашки, 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ме того, это направление охватывает сочинение компьютером музыки, стихов, сказок  и даже афоризмов. Основным методом подобного «творчества» является мето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мутаци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естановок) плюс использование некоторых баз знаний и данных, содержащих результаты исследований по структурам текстов, рифм, сценариям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. Другие направ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етические алгорит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нитивное модел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ьные интерфей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ознавание и синтез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дуктивные модел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кусственный интелл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направлений информатики, целью которого является разработка аппаратно-программных средств, позволяющих пользователю-непрограммисту ставить и решать свои, традиционно считающиеся интеллектуальными задачи, общаясь с ЭВМ на ограниченном подмножестве естественного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публ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3520" y="15984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1943 году Уоррен Маккалок и Уолтер Питтс опубликовали свои труды под названием «A Logical Calculus of the Ideas Immanent in Nervous Activity (Логическое исчисление идей, относящихся к нервной активности)», которые заложили основы искусственных нейронных се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ы предложили модель искусственного нейро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1949 года Д. Хебб в работе «Организация поведения» [6] описал основные принципы обучения нейро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ес к исследованию нейронных сетей угас после публикации работы по машинному обучению Минского и Пейперта в 1969 году. Ими были обнаружены основные вычислительные проблемы, возникающие при компьютерной реализации искусственных нейронных сетей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1950 работа Алана Тьюринга «Computing Machinery and Intelligence (Вычислительные машины и разум)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ая работа была опубликована в году в журнале «Mind», дающая широкой аудитории представление о том, что в настоящее время называется тестом Тьюрин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ть этого теста следующ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человек и робот общаются с другим человеком, таким образом, чтобы тот не знал и не видел, кто есть кто. Например, по телефону, через телетайп или через чат (в современной интерпретации). Если робот смог выдать себя за человека, значит, это и есть искусственный интелле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-6858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ение знаний или разработка систем, основанных на зн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т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ая эксперт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идентификации органических соединений с помощью анализа масс-спектрограмм была создана в 1965 году и назван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endr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 с ней происходила следующим образом: Пользователь дает системе Dendral некоторую информацию о веществе, а также данные спектрометрии (инфракрасной, ядерного магнитного резонанса и масс-спектрометрии), и та в свою очередь выдает диагноз в виде соответствующей химической структуры. В состав Dendral входят также программы, помогающие пользователю отбрасывать одни гипотезы и применять другие, используя знания о связях показаний масс-спектрометра со структурой молекул соединения[11-12]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спертной системы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MYC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была разработана в 70-х годах XX-ого века в Стэнфордском университете. В отличии от Dendral в ней внимание было акцентировано на использовании решающих правил с элементами неопределенности. MYCIN был спроектирован для диагностирования бактерий, вызывающих тяжелые инфек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ус: из-за технических сложностей того времени сеанс работы с программой мог длиться более 30 минут, что было недопустимой потерей времени для занятого врача клини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Программное обеспечение систем 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ются специальные языки для решения интеллектуальных задач, в которых традиционно упор делается на преобладание логической и символьной обработки над вычислительными процеду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LO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TAL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ЕФАЛ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ются пакеты прикладных программ, ориентированные на промышленную разработку интеллектуальных систем, или программные инструментарии искусственного интеллекта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так называемых пустых экспертных систем или «оболочек» 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P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SY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ЭКО и др., базы знаний которых можно наполнять конкретными знаниями, создавая различные прикладные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естественно-языковы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фейсов и машинный пере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МП используется несколько более сложных моде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менение так называемы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языков-посредников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языков смысла, в результате происходит дополнительная трансляция «исходный язык оригинала — язык смысла — язык перевод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ассоциативный поис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огичных фрагментов текста и их переводов в специальных текстовых репозиториях или базах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структурный подход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ющий последовательный анализ и синтез естественно-языковых сообщений. Традиционно такой подход предполагает наличие нескольких фаз анали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фологический анали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анализ слов в 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интаксический анали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разбор состава предложений и грамматических связей между сло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мантический анали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анализ смысла составных частей каждого предло­жения на основе некоторой предметно-ориентированной базы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гматический анализ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смысла предложений в реальном контек­сте на основе собственной базы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 компьютерной лингвис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954 году родилось такое направление ИИ, как Neural language processing (Обработка естественного языка, или компьютерная лингвистик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началось со знаменитого Джорджтаунского эксперимента, в котором были продемонстрированы возможности машинного перевода с одного языка на другой. В ходе эксперимента был продемонстрирован полностью автоматический перевод более 60 предложений с русского языка на английский. Что интересно, в его основе лежала довольно простая система: она была основана всего на 6 грамматических правилах, а словарь включал 250 записей. В компьютер в торжественной обстановке на перфокартах вводились предложения вроде: «Обработка повышает качество нефти», «Командир получает сведения по телеграфу», — и машина выводила их перевод, напечатанный транслитом. Демонстрация была широко освещена в СМИ и воспринята как успех. Она повлияла на решение правительств некоторых государств, в первую очередь США, направить инвестиции в область вычислительной лингвистик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нако, в дальнейшем выяснилось, что все не так хорошо, как кажется. При попытке перевода более сложных текстов выяснились непреодолимые на тот момент труд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Интеллектуальные робот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650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обо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— это электротехнические устройства, предназначенные для автоматизации че­ловеческ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коление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боты с жесткой схемой управления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 все современные промышленные роботы принадлежат к первому поколению. Фактически э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ируемые манипулят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коление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даптивные роботы с сенсорными устройствам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ь образцы таких роботов, но в промышленности они пока используются м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коление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амоорганизующиеся или интеллектуальные роботы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— конечная цель развития робототех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решенные пробл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создании интеллектуальных роботов — проблема машинного зрения и адекватного хранения и обработки трехмерной визуальной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d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Объект 4" descr=""/>
          <p:cNvPicPr/>
          <p:nvPr/>
        </p:nvPicPr>
        <p:blipFill>
          <a:blip r:embed="rId1"/>
          <a:stretch/>
        </p:blipFill>
        <p:spPr>
          <a:xfrm>
            <a:off x="2646360" y="1598760"/>
            <a:ext cx="26208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9:08:54Z</dcterms:created>
  <dc:creator>Elena</dc:creator>
  <dc:description/>
  <dc:language>en-US</dc:language>
  <cp:lastModifiedBy>Елена Климова</cp:lastModifiedBy>
  <dcterms:modified xsi:type="dcterms:W3CDTF">2019-02-21T09:05:07Z</dcterms:modified>
  <cp:revision>6</cp:revision>
  <dc:subject/>
  <dc:title>Основные направления исследований в области искусственного интеллекта</dc:title>
</cp:coreProperties>
</file>