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2DC-8876-40FB-83DD-4054E90A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9B73-2BF8-4E4B-AE48-664B8575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108-4DE0-4769-8B29-268CCB17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310-4FEF-4D42-AFBA-81C4DC3E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FAD-D416-4C49-9AB5-E3371036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E53-5DD6-4C8B-B256-2205B25D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5641-C951-482F-9D20-0DB6EEB9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E7DF-6F88-4063-817D-998532F8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38A3-8C5A-4BD3-BC04-83C1A758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4119-ABD6-4176-BA84-5477F67F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C853-C37E-4171-9009-B3DA9256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6F3-A101-406C-9349-F475A63A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448C-1331-4EB3-A459-9791C50F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40E7-69A3-4701-9EBD-A5303B61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FEFC-5D2C-4B7E-A4E8-04C1D8DE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84D7-4AB7-4A97-A910-41077DB5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C04B-C577-42A5-8B89-725A0C00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D8E-0DB5-4F70-A5E3-06D46DE4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D529-02C5-4EBA-8B08-1774E92C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50D4-8208-4180-821A-9E727C17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0AA-8239-4DBC-A4BB-7CFAA6FC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908-17B8-420A-BABA-96D72A1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AE1-B559-4CC6-8875-B66AB1E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AB9-79DB-4BD5-BB17-5BD9039E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E26E-EA63-47FB-A1A5-6EE00D7D561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73F2-1156-487B-BA49-3ECF7F8D9EFE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 на зна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068640"/>
            <a:ext cx="56386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Лекция 5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Интеллектуальны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Информационные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истемы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Обратный порядок вывода</a:t>
            </a:r>
            <a:br>
              <a:rPr sz="3600"/>
            </a:br>
            <a:r>
              <a:rPr b="0" lang="ru-RU" sz="3600" spc="-1" strike="noStrike">
                <a:solidFill>
                  <a:srgbClr val="999933"/>
                </a:solidFill>
                <a:latin typeface="Arial"/>
              </a:rPr>
              <a:t>(Вывод, управляемый целям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33465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Arial"/>
              </a:rPr>
              <a:t>Прямой порядок вывода</a:t>
            </a:r>
            <a:br>
              <a:rPr sz="3600"/>
            </a:br>
            <a:r>
              <a:rPr b="0" lang="ru-RU" sz="3600" spc="-1" strike="noStrike">
                <a:solidFill>
                  <a:srgbClr val="999933"/>
                </a:solidFill>
                <a:latin typeface="Arial"/>
              </a:rPr>
              <a:t>(Вывод, управляемый данным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2573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72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  </a:t>
            </a:r>
            <a:br>
              <a:rPr sz="36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человек активный» и «любит солнце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вило 1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«отдых — летом» 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«человек — активный»,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о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«ехать в горы»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авило 2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«любит солнце», </a:t>
            </a:r>
            <a:r>
              <a:rPr b="0" lang="ru-RU" sz="3200" spc="-1" strike="noStrike">
                <a:solidFill>
                  <a:srgbClr val="cc9900"/>
                </a:solidFill>
                <a:latin typeface="Arial"/>
              </a:rPr>
              <a:t>то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«отдых летом»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826920" y="2295360"/>
            <a:ext cx="802188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971640" y="2654280"/>
            <a:ext cx="7416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поис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ширину и глубин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В системах, база знаний которых насчитывает сотни правил, использую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атегии управления выводом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позволяющей минимизировать время поиска решения и тем самым повысить эффективность вывода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иск в глуб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в качестве очередной подцели выбирается та, которая соответствует следующему, более детальному уровню описания задания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иск в шир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истема вначале проанализирует все подцели, находящиеся на одном уровне пространства состояний, даже если они относятся к разным целям, и лишь затем перейдет к подцелям следующего уровня детальност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шина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грамма, управляющая перебором правил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Выполняет две функци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просмотр существующих фактов из рабочей памяти (базы данных) и правил из базы знаний и добавление (по мере возможности) в рабочую память новых фак­тов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определение порядка просмотра и применения правил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ханизм вы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1) Компонента вывода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сновано на применении правила, называемого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modus ponens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dus ponens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Если известно, что истинно утверждение А и существует правило вида «ЕСЛИ А, ТО В», тогда утверждение В также истинно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15824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ханизм вы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2) Управляющий компонент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определяет порядок применения правил и выполняет четыре функц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А) Сопоставление —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разец правила сопоставляется с имеющимися факт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Б) Выбор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— если можно применить сразу несколько правил, то из них выбирается одно, наиболее подходящее по заданному критер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В) Срабатывание —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если образец правила при сопоставлении совпал с какими-то фактами из рабочей памяти, то правило срабатывает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Г) Действие —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абочая память подвергается изменению путем добавления в нее заключения сработавшего, правила. Если в правой части правила содержится указание на какое-либо действие, то оно выполн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9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0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1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Arial"/>
              </a:rPr>
              <a:t>Цикл работы интерпрета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775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9900"/>
                </a:solidFill>
                <a:latin typeface="Arial"/>
              </a:rPr>
              <a:t>Схема функционирования интерпрета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116000" y="2033640"/>
            <a:ext cx="578484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тегии управления выво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Метод поиска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цедура выб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сводится к определению направления поиска и способа его осуществления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новидности методов по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Какую точку в пространстве состояний принять в качестве исходной? ----- </a:t>
            </a: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прямом или обратный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Какими методами можно повысить эффективность поиска решения ?-----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в глубину, в ширину, по подзадачам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или</a:t>
            </a:r>
            <a:r>
              <a:rPr b="1" lang="ru-RU" sz="3200" spc="-1" strike="noStrike">
                <a:solidFill>
                  <a:srgbClr val="cc9900"/>
                </a:solidFill>
                <a:latin typeface="Arial"/>
              </a:rPr>
              <a:t> иначе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0:50:05Z</dcterms:created>
  <dc:creator>Elena</dc:creator>
  <dc:description/>
  <dc:language>en-US</dc:language>
  <cp:lastModifiedBy>Елена</cp:lastModifiedBy>
  <dcterms:modified xsi:type="dcterms:W3CDTF">2014-03-16T16:42:55Z</dcterms:modified>
  <cp:revision>7</cp:revision>
  <dc:subject/>
  <dc:title>Вывод на знаниях</dc:title>
</cp:coreProperties>
</file>