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732C-9A5C-4F9F-8021-12321E7D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77D7-F37D-4731-9CBB-ACF252B7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10AD-9826-43E8-BB2E-F2880882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557-2D33-4A58-BC1F-97566798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B91D-7B41-47E0-8DBF-CEEE73F3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1A7E-AEE9-4AAC-A38F-FA195AB9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6E9F-57A1-4BCE-9716-E0382F08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159E-D4BC-4FF2-8A2D-0F587691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A094-EFA0-4D70-A1A5-3285BC9C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8EE7-F96C-46F1-9F22-AF6A8D1E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FA55-F021-4D24-A37A-655F7F5E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30F0-992E-494A-856B-87452BD8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1D4B-DD8A-48BF-A568-346B8250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8121-746A-4243-90DF-70D611B3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92DF-CE93-4609-9F00-F8D86976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D555-C417-4BB8-82C0-23EB588B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B5E7-F72E-4279-B83B-9A7CA902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640D-AFD4-4322-903D-26EEE49A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23C-8BAA-4674-B210-B9E09B64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D4D-55C7-44FB-A528-3ADC0E09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48F-A4E7-40D3-836F-F5D382F5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C01A-5C4D-4B64-B892-D8130CD7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79C-3E20-46D3-9328-F07A6ED5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F879-85AC-40E0-8CAF-73DDBF78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D245-F435-4672-BEEE-EA8C581E11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A321-5B1E-4E8B-8DF6-6B345399C5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одели представления знан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екция 2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нтеллектуальны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нформационны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емантическая сеть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едложена амер. психологом Куиллианом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649600" y="2894040"/>
            <a:ext cx="48387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Фреймы (каркас, основа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это абстрактный образ для представления некоего стереотипа восприят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ормализованная модель для отображения образ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иды фрейм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Фреймы-образцы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прототипы), хранящиеся в базе знан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Фреймы-экземпляры,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оторые создаются для отображения реальных фактических ситуаций на основе поступающих данных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иды фрейм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реймы-структуры, использующиеся для обозначения объектов и понятий (заем, залог, вексель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реймы-роли (менеджер, кассир, клиент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реймы-сценарии (банкротство, собрание акционеров, празднование име­нин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реймы-сияния (тревога, авария, рабочий режим устройства) и др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труктура фрей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84978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следование свойст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6840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Продукционная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модель или модель, основанная на правила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условие)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о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действие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слов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антецедент) – предложение-образец, по которому осуществляется поиск в базе знани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йстви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консеквент) 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йствия, выполняемые при успешном исходе поиск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емантическая сеть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это ориентированный граф, вершины которого — понятия, а дуги — отношения между ним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семантическая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значает «смысловая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емантика — это наука, устанавливающая отношения между символами и объектами, которые они обозначаю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оняти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- абстрактные или конкретные объекты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тношения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это связи типа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это» («АКО —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n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», «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»), «имеет частью» («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par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»)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ри типа отношений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ласс — элемент класса (цветок — роза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ойство — значение (цвет — желтый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мер элемента класса (роза — чайная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лассификация семантических сете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82600" y="2017800"/>
            <a:ext cx="7771320" cy="4113360"/>
            <a:chOff x="1182600" y="2017800"/>
            <a:chExt cx="7771320" cy="4113360"/>
          </a:xfrm>
        </p:grpSpPr>
        <p:cxnSp>
          <p:nvCxnSpPr>
            <p:cNvPr id="111" name="_s10259"/>
            <p:cNvCxnSpPr>
              <a:stCxn id="112" idx="0"/>
              <a:endCxn id="113" idx="2"/>
            </p:cNvCxnSpPr>
            <p:nvPr/>
          </p:nvCxnSpPr>
          <p:spPr>
            <a:xfrm flipV="1" rot="16200000">
              <a:off x="5702040" y="3027240"/>
              <a:ext cx="823320" cy="209340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261"/>
            <p:cNvCxnSpPr>
              <a:stCxn id="115" idx="0"/>
              <a:endCxn id="113" idx="2"/>
            </p:cNvCxnSpPr>
            <p:nvPr/>
          </p:nvCxnSpPr>
          <p:spPr>
            <a:xfrm flipH="1" flipV="1" rot="5400000">
              <a:off x="3610080" y="3027960"/>
              <a:ext cx="823320" cy="209196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10262"/>
            <p:cNvSpPr/>
            <p:nvPr/>
          </p:nvSpPr>
          <p:spPr>
            <a:xfrm>
              <a:off x="3274200" y="2017800"/>
              <a:ext cx="3586680" cy="16452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ahoma"/>
                </a:rPr>
                <a:t>Семантические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ahoma"/>
                </a:rPr>
                <a:t>сети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263"/>
            <p:cNvSpPr/>
            <p:nvPr/>
          </p:nvSpPr>
          <p:spPr>
            <a:xfrm>
              <a:off x="1182600" y="4485960"/>
              <a:ext cx="3586680" cy="16452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ahoma"/>
                </a:rPr>
                <a:t>Количество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ahoma"/>
                </a:rPr>
                <a:t>типов отношени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265"/>
            <p:cNvSpPr/>
            <p:nvPr/>
          </p:nvSpPr>
          <p:spPr>
            <a:xfrm>
              <a:off x="5367240" y="4485960"/>
              <a:ext cx="3586680" cy="16452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Tahoma"/>
                </a:rPr>
                <a:t>Типы отношени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Количество типов отношени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днородные (с единственным типом отношений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однородные (с различными типами отношений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ипы отношен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инарные (в которых отношения связывают два объект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арные (в которых есть специальные отношения, связывающие более дву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нятий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Наиболее часто используются следующие типы отношений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вязи типа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«часть — целое» («класс — подкласс», «элемент —множество»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т. п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функциональные связи (определяемые обычно глаголами «производит», «влияет»..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личественные (больше, меньше, равно..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странственные (далеко от , близко от, за, под, над..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ременные (раньше, позже, в течение..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трибутивные связи (иметь свойство, иметь значение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логические связи (И, ИЛИ, НЕ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лингвистические связи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8:33:31Z</dcterms:created>
  <dc:creator>Elena</dc:creator>
  <dc:description/>
  <dc:language>en-US</dc:language>
  <cp:lastModifiedBy>Elena</cp:lastModifiedBy>
  <dcterms:modified xsi:type="dcterms:W3CDTF">2010-09-20T10:49:24Z</dcterms:modified>
  <cp:revision>3</cp:revision>
  <dc:subject/>
  <dc:title>Слайд 1</dc:title>
</cp:coreProperties>
</file>