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813B-BB63-4928-8D12-F2A095E38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6782-0C1A-464D-8073-6FCCA0E7E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D5BF-8F03-4FBF-ADE0-88AB05C09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F3CC-0FB0-4D58-B795-E646A5724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2A676-7F59-4A52-B4D4-F7D0C61A4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C449F-F226-40F3-8AD2-2B7593DFE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0C96A-D157-4E5B-B86B-9455E73F5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E58C4-D0C7-4421-A887-85E2D9195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15832-1D65-4950-8ADC-7706B0CC5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889DE-5E4C-46F7-9EC5-1321A23E8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D093B-9692-4C3A-8D6D-D8408E1F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A343-6592-463F-877B-E70B09E4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9F679-37B5-4506-8107-2D265380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C7E8C-A0B6-46B1-8A02-D74EC776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2BB26-C156-4FF9-93AF-4CAAB624E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9A623-7C17-4C1F-9E01-4A47F6F74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2A8F2-9030-4DF3-8914-7B8227DE0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698F-E8E7-4B76-AFBA-FC8B0DFCB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0B05-E4FB-4383-9598-CFC119D83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EED3-36B2-421B-A675-3F69F14E5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B0E1-FB33-4AC2-89A9-19775B478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5691-FE2D-4166-999B-C6D54C39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C47B-4874-494F-AF9F-B7F5EFE7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82D0-51ED-4E9F-8188-FB29296E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7F5A8-D61F-4A39-AF8A-975C7014A8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58D0-1FEE-4FA4-87DD-884FD32CF6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Данные и знания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кция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теллекту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формацио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Данные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 отдельные факты, характеризующие объекты, процессы и явления предметной области, а также их свой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рансформация данных при обработки их на ЭВМ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— данные как результат измерений и наблюд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— данные на материальных носителях информации (таблицы, протоколы, справочники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 — модели (структуры) данных в виде диаграмм, графиков, функц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 — данные в компьютере на языке описания данны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 — базы данных на машинных носителях информ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Знания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 закономерности предметной области (принципы, связи, законы), полученные в результате практической деятельности и профессионального опыта, позволяющие специалистам ставить и решать задачи а этой обл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рансформация знаний при обработки их на ЭВМ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— знания в памяти человека как результат мыш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— материальные носители знаний (учебники, методические пособ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—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ле знани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условное описание основных объектов предметной облас­ти, их атрибутов и закономерностей, их связывающи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 — знания, описанные на языках представления знаний (продукционные язы­ки, семантические сети, фреймы — см. далее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 —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аза знаний на машинных носителях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Способы определения понятий: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нтенсионал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нятия — это определение его через соотнесение с понятием более высокого уровня абстракции с указанием специфических свойст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Экстенсиона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понятия — определяет понятие через соотнесение с понятиями более низкого уровня абстракции или перечисление фактов, относящихся к оп­ределяемому объек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Классификация знаний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верхностны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 знания о видимых взаимосвязях между отдельными событиями и фактами в предметной обла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лубинны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 абстракции, аналогии, схемы, отображающие структуру и природу процессов, протекающих в предметной области. Эти знания объясняют явления и могут использоваться для прогнозирования поведения объек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Классификация знаний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цедурные – это знания, «растворенные» в алгоритмах, они управляли данными, для их изменения требовалось изменять програм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кларативные - знаниями считаются предложения, записанные на языках представления знаний, приближенных к естественному и понятных неспециалист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07:57:17Z</dcterms:created>
  <dc:creator>Elena</dc:creator>
  <dc:description/>
  <dc:language>en-US</dc:language>
  <cp:lastModifiedBy>Elena</cp:lastModifiedBy>
  <dcterms:modified xsi:type="dcterms:W3CDTF">2010-09-08T08:33:25Z</dcterms:modified>
  <cp:revision>2</cp:revision>
  <dc:subject/>
  <dc:title>Слайд 1</dc:title>
</cp:coreProperties>
</file>