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2EE0F-55E3-44C5-A35D-91D4D1CF7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E4F4B-F7A8-410D-B0C6-A4F39B7EB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658CD-88A6-460B-AE11-280B64426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306C3-8A9A-4CC8-BDAF-B02FA4339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1DBE8-435D-4D9B-9159-823631C40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A3635-8982-4008-8BB1-323953006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63DD0-531C-4585-94B9-1671F82B0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D0A1D-5DB3-4AA5-8AD3-6C8B731F3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4CC9C-AD48-4991-A2E1-411314BCB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1EDB4-1F47-4D44-A2F7-05ADF7F7C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4E278-ACED-4C64-AB1B-97DCB880B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432BC-F94A-42AD-B745-966642CE6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68883-AB96-49D5-A85F-0B2CF9CEB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2F6CC-A4EF-4456-AED4-F722BCE8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890F0-ED2E-475B-87D5-F9BA2B847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A41B7-2FED-4BD7-971C-F2D60A3F3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DC4E5-5CFE-4D25-AEA2-45E11706C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8C0D6-2F78-44D4-8F95-00FC7D5C3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4F48F-FBD4-47DB-9148-355754FC8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06285-5504-425D-A577-8C359817A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98EDC-AA4E-491B-83B9-4E82236E3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143C9-A020-40A8-A2F1-4F1276A2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A6CEA-DD05-4F83-A262-D53360E7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6ABD6-8F02-4528-9FAE-CA552B083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2AE71-D521-4D93-A408-A65EE5F6F5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A51E9-49C5-4E68-ABBF-1185465117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Технология проектирования и разработки 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экспертной системы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Лекция 6.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Интеллектуальны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Информационны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истем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труктурирование или концептуализация знаний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2-4 недели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Разработка неформального описания знаний о предметной области в виде графа, таблицы, диаграммы или текста, которое отражает основные концепции и взаимосвязи между понятиями предметной области.</a:t>
            </a: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Такое описание называется </a:t>
            </a:r>
            <a:r>
              <a:rPr b="0" i="1" lang="en-US" sz="2000" spc="-1" strike="noStrike">
                <a:solidFill>
                  <a:srgbClr val="00007d"/>
                </a:solidFill>
                <a:latin typeface="Arial"/>
              </a:rPr>
              <a:t>полем зн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рминолог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писок основных понятий и их атрибу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ношения между понятия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руктура входной и выходной информации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ратегия принятия реше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граничения стратегий и т. 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Формализация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1-2 месяц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Разработка базы знаний на языке представления знаний-, ко­торый, с одной стороны, соответствует структуре поля знаний, а с другой — позволяет реализовать прототип системы на следующей стадии программной реализации</a:t>
            </a: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огические методы (исчисления предикатов 1-го порядка и др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дукционные модели (с прямым и обратным выводом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емантические се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рейм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ъектно-ориентированные языки, основанные на иерархии классов, объек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еализация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1-2 месяц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Разработка программного комплекса, демонстрирующего жизнеспособ­ность подхода в целом. Чаще всего первый прототип отбрасывается на этапе реализации действующей Э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граммирование на традиционных языках тип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scal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C++ и др.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граммирование на специализированных языках, применяемых в задачах искусственного интеллекта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SP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L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TALK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пользование инструментальных средств разработки ЭС типа СПЭИС, ПИЭС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пользование «пустых» ЭС или «оболочек» тип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sy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ФИАКР [Соловьев, Соловьева, 1989]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естирование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1-2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едели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Выявление ошибок в подходе и реализации прототипа и выработка рекомендаций по доводке системы до промышленного варианта</a:t>
            </a:r>
            <a:r>
              <a:rPr b="1" lang="en-US" sz="2000" spc="-1" strike="noStrike">
                <a:solidFill>
                  <a:srgbClr val="9999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добство и адекватность интерфейсов ввода/вывода (характер вопросов в диалоге, связность выводимого текста результата и др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эффективность стратегии управления (порядок перебора, использование нечеткого вывода и др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чество проверочных пример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рректность базы знаний (полнота и непротиворечивость прави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Arial"/>
              </a:rPr>
              <a:t>3. Развитие прототипа до промышленной Э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демонстрационный прототип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действующий прототи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7d"/>
                </a:solidFill>
                <a:latin typeface="Arial"/>
              </a:rPr>
              <a:t>промышленная сис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7d"/>
                </a:solidFill>
                <a:latin typeface="Arial"/>
              </a:rPr>
              <a:t>коммерческая сис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ереход от демонстрационного прототипа до коммерческ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39640" y="1981080"/>
            <a:ext cx="7848720" cy="44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4. Оценка Э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ля проверки точности работы программы и ее полез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ритерии оцен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критерии пользователе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понятность и «прозрачность» работы системы, удобство интерфейсов и др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критерии приглашенных эксперт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оценка советов-решений, предлагаемых системой, сравнение ее с собственными решениями, оценка подсистемы объяс­нений и др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критерии коллектива разработчик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эффективность реализации, производительность, время отклика, дизайн, широта охвата предметной области, непротиворечивость БЗ, количество тупиковых ситуаций и т. п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5. Стыков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ыковка экспертной системы с другими программными средствами в среде, в которой она будет работать, и обучение людей, которых она будет обслужива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женер по знаниям должен убедиться в том, что эксперты, пользователи и персонал знают, как эксплуатировать и обслуживать е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6. Поддержка сист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сли система сохраняет все знания проблемной области и это знание не будет изменяться в ближайшем будущем : систему можно перекодиро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блемная область изменяется: поддерживать систему в ее инструментальной среде разработ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Процесс разработк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промышленной экспертной системы можно разделить на 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6 этап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700360" y="2421000"/>
            <a:ext cx="34560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Arial"/>
              </a:rPr>
              <a:t>1.Выбор подходящей пробле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пределение проблемной области и задач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хождение эксперта, желающего сотрудничать при решении проблемы, и назначение коллектива разработчик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пределение предварительного подхода к решению проблем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нализ расходов и прибылей от разработ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готовку подробного плана разработ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еподходящая пробл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ектирование задач, которые никто не знает, как реша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С стоит намного больше, чем эконом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С, которая работает, но неприемлема для пользовател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женер-когнитолог составляет план разработки ЭС после того, как выясне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анная задача может быть решена с помощью экспертной системы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кспертную систему можно создать предлагаемыми на рынке средства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меется подходящий экспер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дложенные критерии производительности являются разумны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траты и срок их окупаемости приемлемы для заказч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Arial"/>
              </a:rPr>
              <a:t>2. Технология быстрого прототипировани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8893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Arial"/>
              </a:rPr>
              <a:t>Прототипная система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вляется усеченной версией экспертной системы, спроектированной для проверки правильности кодирования фактов, связей и стратегий рассуждения экспер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Arial"/>
              </a:rPr>
              <a:t>Объем прототип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несколько десятков правил, фреймов или пример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6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стадий </a:t>
            </a:r>
            <a:r>
              <a:rPr b="0" lang="ru-RU" sz="4000" spc="-1" strike="noStrike">
                <a:solidFill>
                  <a:srgbClr val="00007d"/>
                </a:solidFill>
                <a:latin typeface="Arial"/>
              </a:rPr>
              <a:t>разработки прототип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835280" y="1268280"/>
            <a:ext cx="537192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дентификация проблемы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1-2 недели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Знакомство и обучение членов коллектива разработчиков, а также создание неформальной формулировки проблемы</a:t>
            </a:r>
            <a:r>
              <a:rPr b="0" lang="en-US" sz="2400" spc="-1" strike="noStrike">
                <a:solidFill>
                  <a:srgbClr val="9999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пределя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обходимые ресурсы (время, люди, ЭВМ и т. д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точники знаний (книги, дополнительные эксперты, методики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меющиеся аналогичные экспертные систем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ели (распространение опыта, автоматизация рутинных действий и др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лассы решаемых задач и т. 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звлечение знаний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1-3 месяца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Получение инженером по знаниям наиболее полного из возможных представлений о предметной области и способах принятия решения в 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нализ текст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иалог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кспертные игр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к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искусс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тервь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блюдение и друг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1T09:07:53Z</dcterms:created>
  <dc:creator>Elena</dc:creator>
  <dc:description/>
  <dc:language>en-US</dc:language>
  <cp:lastModifiedBy>Elena</cp:lastModifiedBy>
  <dcterms:modified xsi:type="dcterms:W3CDTF">2011-11-02T11:08:09Z</dcterms:modified>
  <cp:revision>5</cp:revision>
  <dc:subject/>
  <dc:title>Технология проектирования и разработки  экспертной системы</dc:title>
</cp:coreProperties>
</file>