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B02-11E7-43AA-87CF-1C74B261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A75-505B-4665-9E48-8F3A2578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7E5-5B89-4F12-BE33-92887B17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516-F7FD-4A20-8AFE-E35E7BBB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8FD4-9FC2-4AE2-A181-567BD080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5854-9053-4792-8982-D2ABD27D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7316-CB3C-4478-841C-EC5E6CEC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2922-DC16-4432-A43E-0F943F86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0A75-03DE-49ED-B4D1-C8C92305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C858-896C-4E52-878E-DB8006FC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C956-0866-4B41-9901-798133D2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D65-00D9-40B9-8D38-F35E9D61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33F9-7D0B-4822-A011-402D6625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D6CF-2FED-460E-92DD-40142A12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A1E0-715A-45EA-9D7F-6DF3D329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DA0A-5C38-45B4-8608-E7217BEA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89DD-A431-42F2-99E4-797C33E3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1DE-BEFE-4B38-B804-E4BCD6B8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072-A824-4871-A2B6-91491B87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53B-9DE5-4A5B-BFC7-468FB0AF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9DB-C545-4879-A3BC-04337608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4EF-EE65-4B24-94BE-D736B8C6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F83-B38D-4066-864F-32296C16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E01-9FAC-4441-95F6-58B9A106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5A34-EEEA-4F9E-B383-1000511BEFC4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8016-7E73-40F1-8729-F9AF91C7C213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Стратегии получения знан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екция 8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теллектуальны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Ключевой вопро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21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</a:t>
            </a:r>
            <a:r>
              <a:rPr b="0" lang="ru-RU" sz="2600" spc="-1" strike="noStrike">
                <a:solidFill>
                  <a:srgbClr val="666699"/>
                </a:solidFill>
                <a:latin typeface="Arial"/>
              </a:rPr>
              <a:t>происходит процесс получения знани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когда происходит перенос компетентности экспертов на инженеров по знаниям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уют два термин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quisitio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приобретени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citatio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выявление, извлечение, установление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99"/>
                </a:solidFill>
                <a:latin typeface="Arial"/>
              </a:rPr>
              <a:t>Извлечение знаний (</a:t>
            </a: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knowledge elicitation</a:t>
            </a:r>
            <a:r>
              <a:rPr b="0" lang="ru-RU" sz="4200" spc="-1" strike="noStrike">
                <a:solidFill>
                  <a:srgbClr val="666699"/>
                </a:solidFill>
                <a:latin typeface="Arial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835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то процедура взаимодействия эксперта с источником знаний, в результате которой становятся явными процесс рассуждений специалистов при принятии решения и структура их представлений о предметной обла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Трудности процесса извлечения знани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Arial"/>
              </a:rPr>
              <a:t>организационные неувязк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Arial"/>
              </a:rPr>
              <a:t>неудачный метод извлечения, не совпадающий со структурой знаний в данной облас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Arial"/>
              </a:rPr>
              <a:t>неадекватная модель (язык) для представления зна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неумение наладить контакт с экспертом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рминологический разнобой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тсутствие целостной системы знаний в результате извлечения только «фрагментов»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прощение «картины мира» экспе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666699"/>
                </a:solidFill>
                <a:latin typeface="Arial"/>
              </a:rPr>
              <a:t>Приобретение знаний (</a:t>
            </a:r>
            <a:r>
              <a:rPr b="0" i="1" lang="en-US" sz="4200" spc="-1" strike="noStrike">
                <a:solidFill>
                  <a:srgbClr val="666699"/>
                </a:solidFill>
                <a:latin typeface="Arial"/>
              </a:rPr>
              <a:t>knowledge acquisition</a:t>
            </a:r>
            <a:r>
              <a:rPr b="0" i="1" lang="ru-RU" sz="4200" spc="-1" strike="noStrike">
                <a:solidFill>
                  <a:srgbClr val="666699"/>
                </a:solidFill>
                <a:latin typeface="Arial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цесс наполнения базы знаний экспертом с использованием специализированных программных средст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200" spc="-1" strike="noStrike">
                <a:solidFill>
                  <a:srgbClr val="000000"/>
                </a:solidFill>
                <a:latin typeface="Arial"/>
              </a:rPr>
              <a:t>Формирование знаний (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machine learning</a:t>
            </a:r>
            <a:r>
              <a:rPr b="0" i="1" lang="ru-RU" sz="4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835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оцесс анализа данных и выявление скрытых закономерностей с использованием специального математического аппарата и программных средст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99"/>
                </a:solidFill>
                <a:latin typeface="Arial"/>
              </a:rPr>
              <a:t>Стратегии получения знани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056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99"/>
                </a:solidFill>
                <a:latin typeface="Arial"/>
              </a:rPr>
              <a:t>Потери информации при разговорном общени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010640" cy="4114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47246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0:18:08Z</dcterms:created>
  <dc:creator>Elena</dc:creator>
  <dc:description/>
  <dc:language>en-US</dc:language>
  <cp:lastModifiedBy>Elena</cp:lastModifiedBy>
  <dcterms:modified xsi:type="dcterms:W3CDTF">2010-10-28T06:56:30Z</dcterms:modified>
  <cp:revision>3</cp:revision>
  <dc:subject/>
  <dc:title>Стратегии получения знаний</dc:title>
</cp:coreProperties>
</file>