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C63-7452-47B2-95E6-E71529BE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E7C-FFDB-4162-B5A1-922D708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8AE-E1A7-445A-970C-03705FE0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C51E-F928-4269-91A5-0D98306E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0C35-723F-4921-A176-6A106D7D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398-2ABD-41BB-9EC6-7321123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4EC2-980D-411D-9431-DF1992E5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44D9-C198-454E-BE20-962EC888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F4D2-E1DB-4B56-A0E0-5C3299DE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B5A2-0175-48C7-96BC-A3AA7690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3C9E-C5AF-428F-A430-2BA9D3A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D0B-9866-46D9-865E-026202D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A3E8-685B-4782-96EF-EBD413B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FCF2-3804-4F51-AA8E-04562D6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C43-C5E4-4E0C-9543-0D1D07FA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E18E-40EC-4083-BA42-601C6C75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715-263B-4F63-B066-38CC3D3A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B96-C526-4C37-8729-DD0BDBB7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BA5-4A68-479E-80C7-93E0076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ABE-A893-40C1-A87C-6C55B577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DEE-6CB6-4C38-A64C-CA5F8F2E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F1C9-0B8F-4814-B163-C4C1F05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E0D-987E-4E09-82A8-0D8A6EBD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559-9428-403A-9BE9-4DFE8E80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B72D-C967-4EA5-B138-56E4A112E3D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CCBB-9E71-4C8C-9288-D19F1C5C02C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Технологии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инженерии зна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ция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Характеристики предметных облас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b812f"/>
                </a:solidFill>
                <a:latin typeface="Arial"/>
              </a:rPr>
              <a:t>хорошо структурирован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с четкой аксиоматизацией, широким применением математического аппарата, устоявшейся терминологи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b812f"/>
                </a:solidFill>
                <a:latin typeface="Arial"/>
              </a:rPr>
              <a:t>средне структурирован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с определившейся терминологией, развивающейся теорией, явными взаимосвязями между явления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b812f"/>
                </a:solidFill>
                <a:latin typeface="Arial"/>
              </a:rPr>
              <a:t>слабо структурирован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 с размытыми определениями, богатой эмпирикой, скрытыми взаимосвязями, с большим количеством «белых пятен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муникативные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ы (пассивные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812f"/>
                </a:solidFill>
                <a:latin typeface="Arial"/>
              </a:rPr>
              <a:t>Наблюд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процессе наблюдений инженер по знаниям находится непосредственно рядом с экспер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Непременное условие этого мето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— невмешательство аналитика в работу эксперта хотя бы на первых пор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енно метод наблюдений является единственно </a:t>
            </a: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«чистым» методом, исключающим вмешательство инженера по знаниям и навязывание им каких-то своих структур представл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блюд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утствие влияния аналитика и его субъективной пози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ксимальное приближение аналитика к предметной обла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сутствие обратной связ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Фрагментарность полученных комментарие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муникативные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ы (пассивные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b812f"/>
                </a:solidFill>
                <a:latin typeface="Arial"/>
              </a:rPr>
              <a:t>Анализ протоколов «мыслей вслу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ксперта просят </a:t>
            </a: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не просто прокомментирова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свои действия и решения, но и </a:t>
            </a: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объяснить, как это решение было найдено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то есть продемонстрировать всю цепочку своих рассужд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 время рассуждений эксперта все его слова, весь «поток сознания» протоколируется инженером по знаниям, при этом полезно отметить даже паузы и междометия. Иногда этот метод называют </a:t>
            </a: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«вербальные отчеты»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Основной трудностью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при протоколировании «мыслей вслух» является принципиальная </a:t>
            </a: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сложност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для любого человека </a:t>
            </a:r>
            <a:r>
              <a:rPr b="0" lang="en-US" sz="2100" spc="-1" strike="noStrike">
                <a:solidFill>
                  <a:srgbClr val="3b812f"/>
                </a:solidFill>
                <a:latin typeface="Arial"/>
              </a:rPr>
              <a:t>объяснить, как он думает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Анализ протоколов «мыслей вслух»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а самовыражения для экспер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наженность структур рассужд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влияния аналитика и его субъективн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и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обратной связ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зможность ухода «в сторону» в рассуждениях экспер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муникативные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ы (пассивные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b812f"/>
                </a:solidFill>
                <a:latin typeface="Arial"/>
              </a:rPr>
              <a:t>Лек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екция является самым старым способом передач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тересует способность лекцию слушать, конспектировать и усваивать. Т.к. экспертов не выбирают, и поэтому учить эксперта чтению лекции инженер по знаниям не сможет, то выбирать данный метод можно только в том случае когда у ээксперта есть область препода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лекции эксперту также предоставлено много степеней свободы для самовыражения; при этом необходимо сформулировать эксперту тему и задачу лек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ек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вобода самовыражения для экспе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уктурированное излож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ая концентрац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влияния аналитика и его субъективной пози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Зашумленность» детал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абая обратная связ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достаток хороших лекторов среди экспертов-практик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Активные индивидуальные методы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вопросные методы поиска знаний)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анкетировани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нтервь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вободный диалог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гры с экспе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кетиров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иболее жесткий метод, то есть наиболее стандартизированный. В этом случае инженер по знаниям заранее составляет вопросник или анкету, размножает ее и использует для опроса нескольких экспертов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ама </a:t>
            </a: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процеду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может проводиться </a:t>
            </a:r>
            <a:r>
              <a:rPr b="0" lang="en-US" sz="2600" spc="-1" strike="noStrike">
                <a:solidFill>
                  <a:srgbClr val="3b812f"/>
                </a:solidFill>
                <a:latin typeface="Arial"/>
              </a:rPr>
              <a:t>двумя способам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 Аналитик вслух задает вопросы и сам заполняет анкету по ответам экспер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 Эксперт самостоятельно заполняет анкету после предварительного инструкт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Рекомендации для составления анк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нкета не должна быть монотонной и однообразной, то есть вызывать скуку или усталость. Это достигается вариациями формы вопросов, сменой тематики, вставкой вопросов-шуток и игровых вопрос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нкета должна быть приспособлена к языку экспер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ледует учитывать, что вопросы влияют друг на друга и поэтому последовательность вопросов должна быть строго продума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Желательно стремиться к оптимальной избыточности. Известно, что в анкете всегда много лишних вопро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лассификация методов практического извлечения знаний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4789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нкетиров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зможность стандартизированного опроса нескольких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требует особенного напряжения от аналитика во время процедуры анкетир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 умения и опыта в составлении анк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контакта между экспертом и инженером по знаниям, нет обратной связ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просы анкеты могут быть неправильно поняты экспер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тервь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ецифическая форму общения инженера по знаниям и эксперта, в которой инженер по знаниям задает эксперту серию заранее подготовленных вопросов с целью извлечения знаний о предметной облас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812f"/>
                </a:solidFill>
                <a:latin typeface="Arial"/>
              </a:rPr>
              <a:t>Основное отлич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тервью позволяет аналитику опускать ряд вопросов в зависимости от ситуации, вставлять новые вопросы в анкету, изменять темп, разнообразить ситуацию общ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 вопрос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вопросы </a:t>
            </a:r>
            <a:r>
              <a:rPr b="0" i="1" lang="en-US" sz="3000" spc="-1" strike="noStrike">
                <a:solidFill>
                  <a:srgbClr val="3b812f"/>
                </a:solidFill>
                <a:latin typeface="Arial"/>
              </a:rPr>
              <a:t>с неопределенностью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тносящейся ко всему предложению («Действительно, введение больших доз антибиотиков может вызвать анафилактический шок?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вопросы с </a:t>
            </a:r>
            <a:r>
              <a:rPr b="0" i="1" lang="en-US" sz="3000" spc="-1" strike="noStrike">
                <a:solidFill>
                  <a:srgbClr val="3b812f"/>
                </a:solidFill>
                <a:latin typeface="Arial"/>
              </a:rPr>
              <a:t>неполной информацие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«При каких условиях необходимо включать кнопку?»), часто начинающиеся со слов «кто», что», «где», «когда» и т. 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О вопросах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Интервь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личие обратной связи (возможность уточнений и разрешения противоречий) для эксперт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ребует значительного времени на подготовку вопросов интервь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вободный диало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 извлечения знаний в форме беседы инженера по знаниям и эксперта, в которой нет жесткого регламентированного плана и вопросник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вободный диалог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ильная обратная связ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зможность изменения сценария и формы сеан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 от аналитика высочайшего напря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формальных методик провед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удность протоколирования результа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ктивные групповые мет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достоинство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 это возможность одновременного «поглощения» знаний от нескольких экспертов, взаимодействие которых вносит в этот процесс элемент принципиальной новизны от наложения разных взглядов и позиц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менее популярн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чем индивидуальны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руглый ст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едусматривает обсуждение какой-либо проблемы из выбранной предметной области, в котором принимают участие с равными правами несколько экспер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бычно вначале участники высказываются в определенном порядке, а затем переходят к живой свободной дискусс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Число участников дискуссии колеблется от трех до пяти—се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руглый сто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воляет получить более объективные фрагменты зн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живляет процедуру извле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воляет участникам обмениваться знания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ебует больших организационных затра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личается сложностью провед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муникативные и текстологические метод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b812f"/>
                </a:solidFill>
                <a:latin typeface="Garamond"/>
              </a:rPr>
              <a:t>Коммуникативные методы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извлечения знаний охватывают методы и процедуры контактов инженера по знаниям с непосредственным источником знаний — экспер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812f"/>
                </a:solidFill>
                <a:latin typeface="Garamond"/>
              </a:rPr>
              <a:t>Т</a:t>
            </a:r>
            <a:r>
              <a:rPr b="1" i="1" lang="en-US" sz="3000" spc="-1" strike="noStrike">
                <a:solidFill>
                  <a:srgbClr val="3b812f"/>
                </a:solidFill>
                <a:latin typeface="Garamond"/>
              </a:rPr>
              <a:t>екстологические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включают методы извлечения знаний из документов (методик, пособий, руководств) и специальной литературы (статей, монографий, учебников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озговой штур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дин из наиболее распространенных методов раскрепощения и активизации творческого мышл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ная идея штурма — это отделение процедуры генерирования идей в замкнутой группе специалистов от процесса анализа и оценки высказанных ид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40 минут, до 10 челове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Мозговой штур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воляет выявлять глубинные пласты знаний (на уровне бессознательног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ктивизирует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воляет получать новое знание (гипотезы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зможен только для новых интересных исследовательских пробле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 всегда эффективен (малый процент продуктивных идей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кспертные иг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Игрой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зывают такой вид человеческой деятельности, который отражает (воссоздает) другие ее ви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 этом для игры характерны одновременно условность и серьез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еловые игр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иагностические игр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компьютерные игр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812f"/>
                </a:solidFill>
                <a:latin typeface="Arial"/>
              </a:rPr>
              <a:t>Деловая иг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эксперимент, где участникам предлагается производственная ситуация, а они на основе своего жизненного опыта, своих общих и специальных знаний и представлений принимают реш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и типа деловых игр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а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ланово-производственная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следовательска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Диагностическая иг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— это та же деловая игра, но применяемая конкретно для диагностики методов принятия решения в медицин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и игры возникли при исследовании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способов передачи опы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т опытных врачей новичк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экспертных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97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юсы и минусы  экспертных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b812f"/>
                </a:solidFill>
                <a:latin typeface="Arial"/>
              </a:rPr>
              <a:t>Индивидуальн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Дают возможность сравнительно быстро получить качественную картину принятия реш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зволяют выяснить, какую информацию и как использует экспер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тсутствие методик стандартного набора игр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ысокие профессиональные требования к аналити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юсы и минусы  экспертных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Групповы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истично воссоздают атмосферу конкретной задач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крепощают экспер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Групповые» знания более объективн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ляют логику и аргументацию экспертов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ребует от аналитика знания основ игротехни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жность создания игр для конкретных предметных областей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юсы и минусы  экспертных иг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b812f"/>
                </a:solidFill>
                <a:latin typeface="Arial"/>
              </a:rPr>
              <a:t>Компьютерны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зывают интерес у экспер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ривлекают дизайном и динамик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ожность и высокая цена созда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пециализированных игр в конкретной ПО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екстологические методы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етоды извлечения знаний, основанные на изучении специальных текстов из учебников, монографий, статей, методик и других носителей профессиональных знан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ммуникативные мет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b812f"/>
                </a:solidFill>
                <a:latin typeface="Garamond"/>
              </a:rPr>
              <a:t>Пассивные метод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подразумевают, что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ведущая роль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процедуре извлечения как бы передается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эксперту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инженер по знания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только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протоколирует рассуждения экспер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о время его реальной работы по принятию решений или записывает то, что эксперт считает нужным самостоятельно рассказать в форме лек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хема извлечения знаний из специальных текстов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ыяснить, за счет чего можно достичь максимальной адекватност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1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М2,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мня при этом, что понимание всегда относительно, поскольку это синтез двух смыслов «свое—чужо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612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мпоненты научного тек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1280" y="1700280"/>
            <a:ext cx="360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. Основные моменты понимания текс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ыдвижение предварительной гипотезы о смысле всего текста (предугадывание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пределение значений непонятных слов (то есть специальной терминологии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озникновение общей гипотезы о содержании текста (о знаниях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Уточнение значения терминов и интерпретация отдельных фрагментов текста под влиянием общей гипотезы (от целого к частям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ормирование некоторой смысловой структуры текста за счет установления внутренних связей между отдельными важными (ключевыми) словами и фрагментами, а также за счет образования абстрактных понятий, обобщаю­щих конкретные фрагменты знан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Корректировка общей гипотезы относительно содержащихся в тексте фрагментов знаний (от частей к целому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ринятие основной гипотезы, то есть формирование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М2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поненты формирования смысла текст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590544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иды текстологических метод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специальной литератур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учебник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нализ методи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b812f"/>
                </a:solidFill>
                <a:latin typeface="Arial"/>
              </a:rPr>
              <a:t>Различи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. по степени концентрированности специальных зн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2. по соотношению специальных и фоновых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ммуникативные метод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3b812f"/>
                </a:solidFill>
                <a:latin typeface="Garamond"/>
              </a:rPr>
              <a:t>активных метода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напротив, </a:t>
            </a: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инициатив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лностью </a:t>
            </a:r>
            <a:r>
              <a:rPr b="0" lang="ru-RU" sz="3000" spc="-1" strike="noStrike">
                <a:solidFill>
                  <a:srgbClr val="3b812f"/>
                </a:solidFill>
                <a:latin typeface="Arial"/>
              </a:rPr>
              <a:t>в руках инженера по знания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активно контактирует с экспертом различными способами — в играх, диалогах, беседах за круглым столом и т.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оммуникативные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методы (активные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b812f"/>
                </a:solidFill>
                <a:latin typeface="Garamond"/>
              </a:rPr>
              <a:t>групповые метод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обычно активизируют мышление участников дискуссий и позволяют выявлять весьма нетривиальные аспекты их зн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b812f"/>
                </a:solidFill>
                <a:latin typeface="Garamond"/>
              </a:rPr>
              <a:t>индивидуальные методы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на сегодняшний день остаются ведущими, поскольку столь деликатная процедура, как «отъем знаний», не терпит лишних свиде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Факторы, влияющие на выбор метода извлечения знани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ичностные особенности инженера по знания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ичностные особенности эксперта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арактеристика предметной обла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Личностные особенности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нженера и эксперт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мыслитель (познавательный тип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риентирован на интеллектуальную работу, учебу, теоретические обобщения и обладают такими характеристиками когнитивного стиля, как поле-независимость и рефлексивность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собеседник (эмоционально-коммуникативный тип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о общительные, открытые люди, готовые к сотрудничеству 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практик (практический тип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едпочитает действие разговорам, хорошо реализуют замыслы других, направлены на результативность работы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Характеристики предметных областей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хорошо документирован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редне документированные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або документированны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2360" y="3213000"/>
            <a:ext cx="57434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56:46Z</dcterms:created>
  <dc:creator>Elena</dc:creator>
  <dc:description/>
  <dc:language>en-US</dc:language>
  <cp:lastModifiedBy>Elena</cp:lastModifiedBy>
  <dcterms:modified xsi:type="dcterms:W3CDTF">2010-11-15T12:14:47Z</dcterms:modified>
  <cp:revision>7</cp:revision>
  <dc:subject/>
  <dc:title>Технологии  инженерии знаний</dc:title>
</cp:coreProperties>
</file>