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D3A-3463-4014-8DDC-209D6446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7F2-00A8-4761-AD66-208EF21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C90-D1EF-4570-82B4-D0F251FE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CEA-B137-4214-9766-ABB63C77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13CB-A0B1-4546-98DB-04113B6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67FA-F9BD-457B-97AB-0DC3658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5E6E-46D3-4D5E-A861-CE8AB2A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1D88-F809-45F5-8AD0-FA7C4DA0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EBCD-90BD-45DE-9CAF-38FF082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39F1-A749-4FF4-A03C-1550766D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2BC6-3749-431D-B97D-13FD289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315-8374-41A9-A09F-8D890E95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5C6-B150-4BE0-8968-3F48293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C5DC-5CA3-4C06-81D5-58EBB547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953-C104-4331-BA7D-0982C689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E231-DA57-4EEF-A9C3-04B89CD7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065A-570E-4EB5-997D-207A2FF5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A58-1EB4-4FB1-8FB9-D95D1314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D42-2261-49CA-AAA0-799931FA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612-BE17-4F51-AB7C-1A0F4E7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3890-B999-4026-A9F6-E13F98D6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1B1-40AE-40C1-96A1-3417F270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DA7F-693B-4BB0-9CF2-9E628A27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54D-3DBA-49A1-8EE7-537647A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FB6F-8964-423C-8FFA-9EEE100C93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681C-F396-432C-A111-E9321AB0CB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ХНОЛОГИ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LAP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LTP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ллектуаль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LT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OLTP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Online Transaction Processing),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транзакционная систем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— обработка транзакций в реальном времени. Способ организации БД, при котором система работает с небольшими по размерам транзакциями, но идущими большим потоком, и при этом клиенту требуется от системы минимальное время отклика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Термин OLTP применяют также к системам (приложениям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OLTP-системы предназначены для ввода, структурированного хранения и обработки информации (операций, документов) в режиме реального времен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OLTP-приложениями охватывается широкий спектр задач во многих отраслях — автоматизированные банковские системы, банковские и биржевые операции, в промышленности — регистрация прохождения детали на конвейере, фиксация в статистике посещений очередного посетителя веб-сайта, автоматизация бухгалтерского, складского учёта и учёта документов и т. п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ложения OLTP, как правило, автоматизируют структурированные, повторяющиеся задачи обработки данных, такие как ввод заказов и банковские транзакци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OLTP-системы проектируются, настраиваются и оптимизируются для выполнения максимального количества транзакций за короткие промежутки времени. Как правило, большой гибкости здесь не требуется, и чаще всего используется фиксированный набор надёжных и безопасных методов ввода, модификации, удаления данных и выпуска оперативной отчётности. Показателем эффективности является количество транзакций, выполняемых за секунду. Обычно аналитические возможности OLTP-систем сильно ограничены (либо вообще отсутствуют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L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ППР обычно обладают средствами предоставления пользователю агрегатных данных для различных выборок из исходного набора в удобном для восприятия и анализа виде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акие агрегатные функции образуют так называемый -  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гиперкуб или метакуб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акуб (гиперкуб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001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акуб (гиперкуб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то многомерный набор данных, 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ос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которого содержат параметры, а </a:t>
            </a:r>
            <a:r>
              <a:rPr b="0" lang="ru-RU" sz="3000" spc="-1" strike="noStrike">
                <a:solidFill>
                  <a:srgbClr val="cc0000"/>
                </a:solidFill>
                <a:latin typeface="Verdana"/>
              </a:rPr>
              <a:t>ячейк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— зависящие от них агрегатные данные - причем храниться такие данные могут и в реляционных таблицах. Вдоль каждой оси данные могут быть организованы в виде иерархии, представляющей различные уровни их детализ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08:39:54Z</dcterms:created>
  <dc:creator>Elena</dc:creator>
  <dc:description/>
  <dc:language>en-US</dc:language>
  <cp:lastModifiedBy>Лаврик</cp:lastModifiedBy>
  <dcterms:modified xsi:type="dcterms:W3CDTF">2016-11-16T11:29:53Z</dcterms:modified>
  <cp:revision>6</cp:revision>
  <dc:subject/>
  <dc:title>Слайд 1</dc:title>
</cp:coreProperties>
</file>