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044-EB91-4D3D-BFE8-5180C853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680B-C562-4D42-BD05-1EB13674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4C0-4CF1-4437-8190-C01DE2C6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A60-5D60-43B0-9C5D-39770349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980-169B-4DF1-952C-B3B19535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D574-0BF4-4EA7-A1D1-E00324D9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0FB-AB31-46F4-B3D0-3512E9EA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286-9E41-498F-901B-D14E6C6B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FE3-8A0D-49EC-B862-728708B5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5DC-A28F-4F7D-ADC7-FA5DA112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0A5-2988-402B-AF4B-58FA0A4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FC9-9D3C-4A24-80CB-9329F0F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E76-B86C-4DD1-A250-8D9822BA2F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2;&#1090;&#1086;&#1088;" TargetMode="External"/><Relationship Id="rId2" Type="http://schemas.openxmlformats.org/officeDocument/2006/relationships/hyperlink" Target="http://ru.wikipedia.org/wiki/&#1043;&#1077;&#1085;&#1086;&#1090;&#1080;&#1087;" TargetMode="External"/><Relationship Id="rId3" Type="http://schemas.openxmlformats.org/officeDocument/2006/relationships/hyperlink" Target="http://ru.wikipedia.org/wiki/&#1041;&#1080;&#1090;" TargetMode="External"/><Relationship Id="rId4" Type="http://schemas.openxmlformats.org/officeDocument/2006/relationships/hyperlink" Target="http://ru.wikipedia.org/wiki/&#1060;&#1077;&#1085;&#1086;&#1090;&#1080;&#1087;" TargetMode="External"/><Relationship Id="rId5" Type="http://schemas.openxmlformats.org/officeDocument/2006/relationships/hyperlink" Target="http://ru.wikipedia.org/wiki/&#1057;&#1082;&#1088;&#1077;&#1097;&#1080;&#1074;&#1072;&#1085;&#1080;&#1077;" TargetMode="External"/><Relationship Id="rId6" Type="http://schemas.openxmlformats.org/officeDocument/2006/relationships/hyperlink" Target="http://ru.wikipedia.org/wiki/&#1052;&#1091;&#1090;&#1072;&#1094;&#1080;&#1103;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4;&#1087;&#1090;&#1080;&#1084;&#1080;&#1079;&#1072;&#1094;&#1080;&#1103;_&#1092;&#1091;&#1085;&#1082;&#1094;&#1080;&#1081;&amp;action=edit&amp;redlink=1" TargetMode="External"/><Relationship Id="rId2" Type="http://schemas.openxmlformats.org/officeDocument/2006/relationships/hyperlink" Target="http://ru.wikipedia.org/wiki/&#1054;&#1087;&#1090;&#1080;&#1084;&#1080;&#1079;&#1072;&#1094;&#1080;&#1103;_&#1079;&#1072;&#1087;&#1088;&#1086;&#1089;&#1086;&#1074;_&#1057;&#1059;&#1041;&#1044;" TargetMode="External"/><Relationship Id="rId3" Type="http://schemas.openxmlformats.org/officeDocument/2006/relationships/hyperlink" Target="http://ru.wikipedia.org/wiki/&#1043;&#1088;&#1072;&#1092;_%28&#1084;&#1072;&#1090;&#1077;&#1084;&#1072;&#1090;&#1080;&#1082;&#1072;%29" TargetMode="External"/><Relationship Id="rId4" Type="http://schemas.openxmlformats.org/officeDocument/2006/relationships/hyperlink" Target="http://ru.wikipedia.org/wiki/&#1047;&#1072;&#1076;&#1072;&#1095;&#1072;_&#1082;&#1086;&#1084;&#1084;&#1080;&#1074;&#1086;&#1103;&#1078;&#1077;&#1088;&#1072;" TargetMode="External"/><Relationship Id="rId5" Type="http://schemas.openxmlformats.org/officeDocument/2006/relationships/hyperlink" Target="http://ru.wikipedia.org/wiki/&#1048;&#1089;&#1082;&#1091;&#1089;&#1089;&#1090;&#1074;&#1077;&#1085;&#1085;&#1072;&#1103;_&#1085;&#1077;&#1081;&#1088;&#1086;&#1085;&#1085;&#1072;&#1103;_&#1089;&#1077;&#1090;&#1100;" TargetMode="External"/><Relationship Id="rId6" Type="http://schemas.openxmlformats.org/officeDocument/2006/relationships/hyperlink" Target="http://ru.wikipedia.org/wiki/&#1050;&#1086;&#1084;&#1087;&#1086;&#1085;&#1086;&#1074;&#1082;&#1072;" TargetMode="External"/><Relationship Id="rId7" Type="http://schemas.openxmlformats.org/officeDocument/2006/relationships/hyperlink" Target="http://ru.wikipedia.org/w/index.php?title=&#1057;&#1086;&#1089;&#1090;&#1072;&#1074;&#1083;&#1077;&#1085;&#1080;&#1077;_&#1088;&#1072;&#1089;&#1087;&#1080;&#1089;&#1072;&#1085;&#1080;&#1081;&amp;action=edit&amp;redlink=1" TargetMode="External"/><Relationship Id="rId8" Type="http://schemas.openxmlformats.org/officeDocument/2006/relationships/hyperlink" Target="http://ru.wikipedia.org/w/index.php?title=&#1048;&#1075;&#1088;&#1086;&#1074;&#1099;&#1077;_&#1089;&#1090;&#1088;&#1072;&#1090;&#1077;&#1075;&#1080;&#1080;&amp;action=edit&amp;redlink=1" TargetMode="External"/><Relationship Id="rId9" Type="http://schemas.openxmlformats.org/officeDocument/2006/relationships/hyperlink" Target="http://ru.wikipedia.org/wiki/&#1058;&#1077;&#1086;&#1088;&#1080;&#1103;_&#1087;&#1088;&#1080;&#1073;&#1083;&#1080;&#1078;&#1077;&#1085;&#1080;&#1081;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74;&#1088;&#1080;&#1089;&#1090;&#1080;&#1095;&#1077;&#1089;&#1082;&#1080;&#1081;_&#1072;&#1083;&#1075;&#1086;&#1088;&#1080;&#1090;&#1084;" TargetMode="External"/><Relationship Id="rId2" Type="http://schemas.openxmlformats.org/officeDocument/2006/relationships/hyperlink" Target="http://ru.wikipedia.org/wiki/&#1045;&#1089;&#1090;&#1077;&#1089;&#1090;&#1074;&#1077;&#1085;&#1085;&#1099;&#1081;_&#1086;&#1090;&#1073;&#1086;&#1088;" TargetMode="External"/><Relationship Id="rId3" Type="http://schemas.openxmlformats.org/officeDocument/2006/relationships/hyperlink" Target="http://ru.wikipedia.org/wiki/&#1069;&#1074;&#1086;&#1083;&#1102;&#1094;&#1080;&#1086;&#1085;&#1085;&#1099;&#1077;_&#1074;&#1099;&#1095;&#1080;&#1089;&#1083;&#1077;&#1085;&#1080;&#1103;" TargetMode="External"/><Relationship Id="rId4" Type="http://schemas.openxmlformats.org/officeDocument/2006/relationships/hyperlink" Target="http://ru.wikipedia.org/wiki/&#1053;&#1072;&#1089;&#1083;&#1077;&#1076;&#1086;&#1074;&#1072;&#1085;&#1080;&#1077;_%28&#1073;&#1080;&#1086;&#1083;&#1086;&#1075;&#1080;&#1103;%29" TargetMode="External"/><Relationship Id="rId5" Type="http://schemas.openxmlformats.org/officeDocument/2006/relationships/hyperlink" Target="http://ru.wikipedia.org/wiki/&#1052;&#1091;&#1090;&#1072;&#1094;&#1080;&#1103;" TargetMode="External"/><Relationship Id="rId6" Type="http://schemas.openxmlformats.org/officeDocument/2006/relationships/hyperlink" Target="http://ru.wikipedia.org/wiki/&#1045;&#1089;&#1090;&#1077;&#1089;&#1090;&#1074;&#1077;&#1085;&#1085;&#1099;&#1081;_&#1086;&#1090;&#1073;&#1086;&#1088;" TargetMode="External"/><Relationship Id="rId7" Type="http://schemas.openxmlformats.org/officeDocument/2006/relationships/hyperlink" Target="http://ru.wikipedia.org/wiki/&#1050;&#1088;&#1086;&#1089;&#1089;&#1080;&#1085;&#1075;&#1086;&#1074;&#1077;&#1088;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C3%E5%ED%E5%F2%E8%F7%E5%F1%EA%E8%E9_%E0%EB%E3%EE%F0%E8%F2%EC#cite_note-3" TargetMode="External"/><Relationship Id="rId2" Type="http://schemas.openxmlformats.org/officeDocument/2006/relationships/hyperlink" Target="http://ru.wikipedia.org/w/index.php?title=&#1040;&#1083;&#1077;&#1082;&#1089;_&#1060;&#1088;&#1072;&#1079;&#1077;&#1088;_%28&#1091;&#1095;&#1105;&#1085;&#1099;&#1081;%29&amp;action=edit&amp;redlink=1" TargetMode="External"/><Relationship Id="rId3" Type="http://schemas.openxmlformats.org/officeDocument/2006/relationships/hyperlink" Target="http://ru.wikipedia.org/wiki/&#1048;&#1089;&#1082;&#1091;&#1089;&#1089;&#1090;&#1074;&#1077;&#1085;&#1085;&#1099;&#1081;_&#1086;&#1090;&#1073;&#1086;&#1088;" TargetMode="External"/><Relationship Id="rId4" Type="http://schemas.openxmlformats.org/officeDocument/2006/relationships/hyperlink" Target="http://ru.wikipedia.org/w/index.php?title=&#1043;&#1072;&#1085;&#1089;-&#1048;&#1086;&#1072;&#1093;&#1080;&#1084;_&#1041;&#1088;&#1077;&#1084;&#1077;&#1088;&#1084;&#1072;&#1085;&#1085;&amp;action=edit&amp;redlink=1" TargetMode="External"/><Relationship Id="rId5" Type="http://schemas.openxmlformats.org/officeDocument/2006/relationships/hyperlink" Target="http://ru.wikipedia.org/w/index.php?title=&#1048;&#1085;&#1075;&#1086;_&#1056;&#1077;&#1093;&#1077;&#1085;&#1073;&#1077;&#1088;&#1075;&#1072;&amp;action=edit&amp;redlink=1" TargetMode="External"/><Relationship Id="rId6" Type="http://schemas.openxmlformats.org/officeDocument/2006/relationships/hyperlink" Target="http://ru.wikipedia.org/w/index.php?title=&#1061;&#1072;&#1085;&#1089;-&#1055;&#1072;&#1091;&#1083;&#1100;_&#1064;&#1074;&#1077;&#1092;&#1077;&#1083;&#1100;&amp;action=edit&amp;redlink=1" TargetMode="External"/><Relationship Id="rId7" Type="http://schemas.openxmlformats.org/officeDocument/2006/relationships/hyperlink" Target="http://ru.wikipedia.org/w/index.php?title=&#1048;&#1089;&#1082;&#1091;&#1089;&#1089;&#1090;&#1074;&#1077;&#1085;&#1085;&#1072;&#1103;_&#1101;&#1074;&#1086;&#1083;&#1102;&#1094;&#1080;&#1103;&amp;action=edit&amp;redlink=1" TargetMode="External"/><Relationship Id="rId8" Type="http://schemas.openxmlformats.org/officeDocument/2006/relationships/hyperlink" Target="http://ru.wikipedia.org/w/index.php?title=&#1048;&#1089;&#1082;&#1091;&#1089;&#1089;&#1090;&#1074;&#1077;&#1085;&#1085;&#1072;&#1103;_&#1101;&#1074;&#1086;&#1083;&#1102;&#1094;&#1080;&#1103;&amp;action=edit&amp;redlink=1" TargetMode="External"/><Relationship Id="rId9" Type="http://schemas.openxmlformats.org/officeDocument/2006/relationships/hyperlink" Target="http://ru.wikipedia.org/wiki/&#1069;&#1074;&#1086;&#1083;&#1102;&#1094;&#1080;&#1086;&#1085;&#1085;&#1072;&#1103;_&#1089;&#1090;&#1088;&#1072;&#1090;&#1077;&#1075;&#1080;&#1103;" TargetMode="External"/><Relationship Id="rId10" Type="http://schemas.openxmlformats.org/officeDocument/2006/relationships/hyperlink" Target="http://ru.wikipedia.org/w/index.php?title=&#1051;&#1086;&#1088;&#1077;&#1085;&#1089;_&#1044;&#1078;._&#1060;&#1086;&#1075;&#1077;&#1083;&#1100;&amp;action=edit&amp;redlink=1" TargetMode="External"/><Relationship Id="rId11" Type="http://schemas.openxmlformats.org/officeDocument/2006/relationships/hyperlink" Target="http://ru.wikipedia.org/wiki/&#1069;&#1074;&#1086;&#1083;&#1102;&#1094;&#1080;&#1086;&#1085;&#1085;&#1086;&#1077;_&#1087;&#1088;&#1086;&#1075;&#1088;&#1072;&#1084;&#1084;&#1080;&#1088;&#1086;&#1074;&#1072;&#1085;&#1080;&#1077;" TargetMode="External"/><Relationship Id="rId12" Type="http://schemas.openxmlformats.org/officeDocument/2006/relationships/hyperlink" Target="http://ru.wikipedia.org/wiki/&#1050;&#1086;&#1085;&#1077;&#1095;&#1085;&#1099;&#1081;_&#1072;&#1074;&#1090;&#1086;&#1084;&#1072;&#1090;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3;&#1077;&#1090;&#1086;&#1095;&#1085;&#1099;&#1081;_&#1072;&#1074;&#1090;&#1086;&#1084;&#1072;&#1090;" TargetMode="External"/><Relationship Id="rId2" Type="http://schemas.openxmlformats.org/officeDocument/2006/relationships/hyperlink" Target="http://ru.wikipedia.org/w/index.php?title=&#1044;&#1078;&#1086;&#1085;_&#1043;&#1077;&#1085;&#1088;&#1080;_&#1061;&#1086;&#1083;&#1083;&#1072;&#1085;&#1076;&amp;action=edit&amp;redlink=1" TargetMode="External"/><Relationship Id="rId3" Type="http://schemas.openxmlformats.org/officeDocument/2006/relationships/hyperlink" Target="http://ru.wikipedia.org/wiki/&#1059;&#1085;&#1080;&#1074;&#1077;&#1088;&#1089;&#1080;&#1090;&#1077;&#1090;_&#1052;&#1080;&#1095;&#1080;&#1075;&#1072;&#1085;&#1072;" TargetMode="External"/><Relationship Id="rId4" Type="http://schemas.openxmlformats.org/officeDocument/2006/relationships/hyperlink" Target="http://ru.wikipedia.org/wiki/&#1058;&#1077;&#1086;&#1088;&#1077;&#1084;&#1072;_&#1089;&#1093;&#1077;&#1084;" TargetMode="External"/><Relationship Id="rId5" Type="http://schemas.openxmlformats.org/officeDocument/2006/relationships/hyperlink" Target="http://ru.wikipedia.org/wiki/&#1055;&#1080;&#1090;&#1090;&#1089;&#1073;&#1091;&#1088;&#1075;" TargetMode="External"/><Relationship Id="rId6" Type="http://schemas.openxmlformats.org/officeDocument/2006/relationships/hyperlink" Target="http://ru.wikipedia.org/w/index.php?title=Evolver_(software)&amp;action=edit&amp;redlink=1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Генетический алгорит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кция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ллекту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формацион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исание алгорит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адача формализуется таким образом, чтобы её решение могло быть закодировано в виде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вектор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(«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генотип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) генов, где каждый ген может быть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битом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числом или неким другим объект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которым, обычно случайным, образом создаётся множество генотипов начальной популяции. Они оцениваются с использованием «функции приспособленности», в результате чего с каждым генотипом ассоциируется определённое значение («приспособленность»), которое определяет насколько хорошо 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фенотип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им описываемый, решает поставленную задач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и выборе «функции приспособленности» (или fitness function в англоязычной литературе) важно следить, чтобы её «рельеф» был «гладким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з полученного множества решений («поколения») с учётом значения «приспособленности» выбираются решения (обычно лучшие особи имеют большую вероятность быть выбранными), к которым применяются «генетические операторы» (в большинстве случаев «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скрещивание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 — crossover и «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мутация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» — mutation), результатом чего является получение новых решений. Для них также вычисляется значение приспособленности, и затем производится отбор («селекция») лучших решений в следующее поколение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тот набор действий повторяется итеративно, так моделируется «эволюционный процесс», продолжающийся несколько жизненных циклов (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околен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, пока не будет выполнен критерий остановки алгоритма. Таким критерием может быт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хождение глобального, либо субоптимального решения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черпание числа поколений, отпущенных на эволюцию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черпание времени, отпущенного на эволюцию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Этапы генетического алгоритм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дать целевую функцию (приспособленности) для особей популя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ть начальную популяц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ачало цикл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змножение (скрещивани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тиров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числить значение целевой функции для всех особ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ормирование нового поколения (селекци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выполняются условия остановки, то (конец цикла), иначе (начало цикл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Применение генетических алгоритмов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Оптимизация функц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Оптимизация запросов в базах данн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нообразные задачи на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графах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задача коммивояже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раскраска, нахождение паросочетани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стройка и обучение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искусственной нейронной се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дач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компонов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оставление распис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Игровые страте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Теория приближ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кусственная жизн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иоинформатика (фолдинг белков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1. Естественный отбор в природ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уть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ее приспособленные особи имеют больше возможностей для выживания и размножения и, следовательно, приносят больше потомства, чем плохо приспособленные особ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еханизмы генетического наследования в природ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аждой клетке любого животного содержится вся генетическая информация этой особи -  набор очень длинных молекул ДНК (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езоксирибоНуклеиновая Кислот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160" indent="-54216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Каждая молекула ДНК - это цепочка, состоящая из молекул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уклеоти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четырех типов, обозначаемых А, T, C и 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Механизмы генетического наследования в природ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животной клетке каждая молекула ДНК окружена оболочкой - такое образование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хромосомо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Различные значения гена называются его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аллел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Основной способ взаимодействия -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россовер (cross-over, скрещивание)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т.е.   ДНК предков делятся на две части, а затем обмениваются своими половинками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Возможны мутации из-за радиоактивности или других влияний, в результате которых могут измениться некоторые гены в половых клетках одного из родителей. Измененные гены передаются потомку и придают ему новые свойства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Что такое генетический алгоритм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эвристический алгорит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поиска, используемый для решения задач оптимизации и моделирования путём случайного подбора, комбинирования и вариации искомых параметров с использованием механизмов, аналогичных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естественному отбор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природ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вляется разновидностью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эволюционных вычислений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с помощью которых решаются оптимизационные задачи с использованием методов естественной эволюции, таких как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наследова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мут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отбо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кроссинговер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личительной особенностью Г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кцент на использование оператора «скрещивания», который производит операцию рекомбинации решений-кандидатов, роль которой аналогична роли скрещивания в живой приро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такое эвристический алгоритм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алгоритм решения задачи, правильность которого для всех возможных случаев не доказана, но про который известно, что он даёт достаточно хорошее решение в большинстве случаев. В действительности может быть даже известно (то есть доказано) то, что эвристический алгоритм формально неверен. Его всё равно можно применять, если при этом он даёт неверный результат только в отдельных, достаточно редких и хорошо выделяемых случаях, или же даёт неточный, но всё же приемлемый результа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ще говоря, эвристика — это не полностью математически обоснованный (или даже «не совсем корректный»), но при этом практически полезный алгорит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ажно понимать, что эвристика, в отличие от корректного алгоритма решения задачи, обладает следующими особенностя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а не гарантирует нахождение лучшего решени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а не гарантирует нахождение решения, даже если оно заведомо существует (возможен «пропуск цели»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на может дать неверное решение в некоторых случая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4 Нильс Баричелли (Институт Продвинутых Исследований Принстонского университета) симуляция эволюц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57 года,</a:t>
            </a:r>
            <a:r>
              <a:rPr b="0" lang="ru-RU" sz="1600" spc="-1" strike="noStrike" u="sng" baseline="30000">
                <a:solidFill>
                  <a:srgbClr val="00ccff"/>
                </a:solidFill>
                <a:uFillTx/>
                <a:latin typeface="Tahoma"/>
                <a:hlinkClick r:id="rId1"/>
              </a:rPr>
              <a:t>[3]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австралийский генетик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Алекс Фразер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опубликовал серию работ по симуляци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искусственного отбор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среди организмов с множественным контролем измеримых характеристик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0-е,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Ганс-Иоахим Бремерман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опубликовал серию работ, которые  принимали подход использования популяции решений, подвергаемой рекомбинации, мутации и отбору, в проблемах оптимизации. Исследования Бремерманна также включали элементы современных генетических алгоритм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63 Баричелли в своей работе 1963 года симулировал способности машины играть в простую игр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0-начало 70 гг, работа 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Инго Рехенберг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Ханс-Паул Швефель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 baseline="30000">
                <a:solidFill>
                  <a:srgbClr val="00ccff"/>
                </a:solidFill>
                <a:uFillTx/>
                <a:latin typeface="Tahoma"/>
                <a:hlinkClick r:id="rId7"/>
              </a:rPr>
              <a:t> </a:t>
            </a:r>
            <a:r>
              <a:rPr b="0" lang="ru-RU" sz="1600" spc="-1" strike="noStrike" u="sng" baseline="30000">
                <a:solidFill>
                  <a:srgbClr val="00ccff"/>
                </a:solidFill>
                <a:uFillTx/>
                <a:latin typeface="Tahoma"/>
                <a:hlinkClick r:id="rId8"/>
              </a:rPr>
              <a:t>искусственная эволюция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ала общепризнанным методом оптимизации, смогли решить сложные инженерные проблемы согласно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стратегиям эволюц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ругим подходом была техника эволюционного программирования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Лоренса Дж. Фогел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которая была предложена для создания искусственного интеллек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Эволюционное программировани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воначально использовавшее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2"/>
              </a:rPr>
              <a:t>конечные автоматы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для предсказывания обстоятельств, и использовавшее разнообразие и отбор для оптимизации логики предсказан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стория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75, Джон Холланд,  книга «Адаптация в естественных и искусственных системах» . Его исследование основывалось на экспериментах с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клеточными автоматам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, проводившимися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Холландо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и на его трудах написанных в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университете Мичигана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Холланд ввел формализованный подход для предсказывания качества следующего поколения, известный как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Теорема схем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80, Исследования в области генетических алгоритмов оставались в основном теоретическими до середины 80-х годов, когда была наконец проведена Первая международная конференция по генетическим алгоритмам в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иттсбурге, Пенсильвания (США)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ец 80-х С ростом исследовательского интереса существенно выросла и вычислительная мощь настольных компьютеров, это позволило использовать новую вычислительную технику на практике. Компания General Electric начала продажу первого в мире продукта, работавшего с использованием генетического алгоритма. Им стал набор промышленных вычислительных средст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989, другая компания Axcelis, Inc. выпустила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Evolver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 — первый в мире коммерческий продукт на генетическом алгоритме для настольных компьютеров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исание алгорит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190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1:19:43Z</dcterms:created>
  <dc:creator>Elena</dc:creator>
  <dc:description/>
  <dc:language>en-US</dc:language>
  <cp:lastModifiedBy>Елена</cp:lastModifiedBy>
  <dcterms:modified xsi:type="dcterms:W3CDTF">2013-12-05T12:23:31Z</dcterms:modified>
  <cp:revision>7</cp:revision>
  <dc:subject/>
  <dc:title>Генетический алгоритм</dc:title>
</cp:coreProperties>
</file>