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040-4208-4EA6-87C5-6A127B7E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040-31AA-4E0C-99C3-984D0169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0166-2061-4A34-92AA-7FF0E8C1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9AFC-7591-49B1-91F5-EB63A257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382F-2FFA-4E26-989B-41A2510C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7CC-E41C-45AD-872A-ADCBA43C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5DDC-F9D0-4E3D-A50D-292FBBAA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F314-D9BE-40A9-9DDC-BBF9BA60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58DF-6C6B-4E3D-80F4-61F84B7E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DE2F-8FC6-413E-968F-A723202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7A4-9548-4B87-96FB-437397D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5FC-2550-4909-A26B-11420E7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C72C-2B3E-4142-9CC8-3D0F6E3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2348-53B4-40A2-9453-B34ED31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0B7A-56DF-4380-9986-2A5B36CB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FC2F-FBA1-44FA-A581-CC19A81B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5271-4C20-4F9C-9FCE-DD9DA7AE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BA7-3905-4821-A7B5-DEF36529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433-054B-4C0A-8558-CC88168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A76-3AEC-4D81-84A5-69C8EE2C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D49-2CA6-4B1F-9940-C7DF3027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319-F75C-4F20-BB7A-A9EC8B79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01B-502F-4ABD-BFA2-16EC681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B6F-D52B-42E1-96E0-B146D311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899-BC57-4500-9C65-743A3141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ED1-6769-47AD-9F43-18C02C30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99cc00"/>
                </a:solidFill>
                <a:latin typeface="Arial Black"/>
              </a:rPr>
              <a:t>Введение в экспертные системы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360" y="342900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Лекция 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1. Интерпретация да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цесс определения смысла данных, результаты которого должны быть согласованными и корректными. Обычно предусматривается многовариантный анализ данных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Диагности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оцесс соотнесения объекта с некоторым классом объектов и/или обнаружение неисправности в некоторой системе. Неисправность — это отклонение от норм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Мониторинг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непрерывная интерпретация данных в реальном масштабе времени и сигнализация о выходе тех или иных параметров за допустимые предел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Главные проблемы — </a:t>
            </a: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«пропуск» тревожной ситуации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 инверсная </a:t>
            </a: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задача «ложного» срабатывани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Проектирова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готовка спецификаций на создание «объектов» с заранее определенными свойства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спецификацие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понимается весь набор необходимых документов — чертёж, пояснительная записка и т. д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ff33"/>
                </a:solidFill>
                <a:latin typeface="Arial"/>
              </a:rPr>
              <a:t>Прогнозирование.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позволяет </a:t>
            </a:r>
            <a:r>
              <a:rPr b="0" lang="en-US" sz="2700" spc="-1" strike="noStrike">
                <a:solidFill>
                  <a:srgbClr val="99ff33"/>
                </a:solidFill>
                <a:latin typeface="Arial"/>
              </a:rPr>
              <a:t>предсказывать последстви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некоторых событий или явлений на основании анализа имеющихся данны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В прогнозирующей системе обычно используется </a:t>
            </a:r>
            <a:r>
              <a:rPr b="0" lang="en-US" sz="2700" spc="-1" strike="noStrike">
                <a:solidFill>
                  <a:srgbClr val="99ff33"/>
                </a:solidFill>
                <a:latin typeface="Arial"/>
              </a:rPr>
              <a:t>параметрическая динамическая модель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в которой значения параметров «подгоняются» под заданную ситуацию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Планирование.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хождение планов действий, относящихся к объектам, способным выполнять некоторые функци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 таких ЭС используются </a:t>
            </a: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модели поведения реальных объектов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 тем, чтобы логически вывести последствия планируемой деятельност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Обуч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использование компьютера для </a:t>
            </a:r>
            <a:r>
              <a:rPr b="0" lang="en-US" sz="3100" spc="-1" strike="noStrike">
                <a:solidFill>
                  <a:srgbClr val="99ff33"/>
                </a:solidFill>
                <a:latin typeface="Arial"/>
              </a:rPr>
              <a:t>обучения какой-то дисциплин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или предмету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истемы обучения диагностируют ошибки при изучении какой-либо дисциплины с помощью ЭВМ и подсказывают правильные решени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99ff33"/>
                </a:solidFill>
                <a:latin typeface="Arial"/>
              </a:rPr>
              <a:t>Управление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функция организованной системы, поддерживающая определенный режим деятельност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Такого рода ЭС осуществляют управление поведением сложных систем в соответствии с заданными спецификациями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9cc00"/>
                </a:solidFill>
                <a:latin typeface="Arial Black"/>
              </a:rPr>
              <a:t>По задач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ff33"/>
                </a:solidFill>
                <a:latin typeface="Arial"/>
              </a:rPr>
              <a:t>Поддержка принятия решений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совокупность процедур, обеспечивающая лицо, принимающее решения, необходимой информацией и рекомендациями, облегчающими процесс принятия решения. Эти ЭС помогают специалистам выбрать и/или сформировать нужную альтернативу среди множества выборов при принятии ответственных реше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cc00"/>
                </a:solidFill>
                <a:latin typeface="Arial Black"/>
              </a:rPr>
              <a:t>Классификация систем, основанных на знаниях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200" spc="-1" strike="noStrike">
                <a:solidFill>
                  <a:srgbClr val="99ff33"/>
                </a:solidFill>
                <a:latin typeface="Arial"/>
              </a:rPr>
              <a:t>системы, решающие задачи анализа</a:t>
            </a:r>
            <a:r>
              <a:rPr b="0" lang="ru-RU" sz="22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о решений может быть перечислено и включено в систем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интерпретация данных, диагностика, поддержка принятия решения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200" spc="-1" strike="noStrike">
                <a:solidFill>
                  <a:srgbClr val="99ff33"/>
                </a:solidFill>
                <a:latin typeface="Arial"/>
              </a:rPr>
              <a:t>системы, решающие задачи синте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о решений потенциально не ограничено и строится из решений компонент или под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оектирование, планирование, управление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200" spc="-1" strike="noStrike">
                <a:solidFill>
                  <a:srgbClr val="99ff33"/>
                </a:solidFill>
                <a:latin typeface="Arial"/>
              </a:rPr>
              <a:t>комбинирова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обучение, мониторинг, прогнозирование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36666"/>
                </a:solidFill>
                <a:latin typeface="Arial Black"/>
              </a:rPr>
              <a:t>Экспертные системы (ЭС)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13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то сложные 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программные комплексы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аккумулирующие знания специалистов в конкретных предметных областях и тиражирующие этот эмпирический опыт 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для консультаций менее квалифицированных пользователе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cc00"/>
                </a:solidFill>
                <a:latin typeface="Arial Black"/>
              </a:rPr>
              <a:t>Связь с реальным временем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ff33"/>
                </a:solidFill>
                <a:latin typeface="Arial"/>
              </a:rPr>
              <a:t>Статические ЭС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рабатываются в предметных областях, в которых база знаний и интерпретируемые данные не меняются во времени. Они стабиль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ff33"/>
                </a:solidFill>
                <a:latin typeface="Arial"/>
              </a:rPr>
              <a:t>Квазидинамические ЭС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терпретируют ситуацию, которая меняется с некоторым фиксированным интервалом време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ff33"/>
                </a:solidFill>
                <a:latin typeface="Arial"/>
              </a:rPr>
              <a:t>Динамические ЭС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тают в сопряжении с датчиками объектов в режиме реального времени с непрерывной интерпретацией поступающих в систему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cc00"/>
                </a:solidFill>
                <a:latin typeface="Arial Black"/>
              </a:rPr>
              <a:t>Степень интеграции с другими программ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ff33"/>
                </a:solidFill>
                <a:latin typeface="Arial"/>
              </a:rPr>
              <a:t>Автономные ЭС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аботают непосредственно в режиме консультаций с пользовате­лем для специфически «экспертных» задач, для решения которых не требуется привлекать традиционные методы обработки данных (расчеты, моделирование и т. д.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cc00"/>
                </a:solidFill>
                <a:latin typeface="Arial Black"/>
              </a:rPr>
              <a:t>Степень интеграции с другими программ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ff33"/>
                </a:solidFill>
                <a:latin typeface="Arial"/>
              </a:rPr>
              <a:t>Гибридные ЭС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граммный комплекс, агрегирующий стандартные пакеты прикладных программ (например, мат. статистику, линейное прогр-ние или СУБД) и средства манипулирования знаниям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Это может быть интеллектуальная надстройка над ППП (пакетами прикладных программ) или интегрированная среда для реше­ния сложной задачи с элементами экспертных знани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бобщенная структура экспертной системы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сновны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7989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cc00"/>
                </a:solidFill>
                <a:latin typeface="Arial"/>
              </a:rPr>
              <a:t>Пользователь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ециалист предметной области, для которого предназначена система. Обычно его квалификация недостаточно высока, и поэтому он нуждается в помощи и поддержке своей  деятельности со стороны ЭС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9cc00"/>
                </a:solidFill>
                <a:latin typeface="Arial"/>
              </a:rPr>
              <a:t>Инженер по знания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специалист в области искусственного интеллекта, выступающий в роли промежуточного буфера между экспертом и базой знаний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200" spc="-1" strike="noStrike">
                <a:solidFill>
                  <a:srgbClr val="99cc00"/>
                </a:solidFill>
                <a:latin typeface="Arial"/>
              </a:rPr>
              <a:t>когнитолог, инженер-интерпретатор, аналитик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сновны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cc00"/>
                </a:solidFill>
                <a:latin typeface="Arial"/>
              </a:rPr>
              <a:t>Интерфейс пользователя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комплекс программ, реализующих диалог пользователя с ЭС как на стадии ввода информации, так и при получении результат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cc00"/>
                </a:solidFill>
                <a:latin typeface="Arial"/>
              </a:rPr>
              <a:t>База знаний (БЗ)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ядро ЭС, совокупность знаний предметной области, записанная на машинный носитель в форме, понятной эксперту и пользователю (обычно на некотором языке, приближенном к естественному)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сновны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cc00"/>
                </a:solidFill>
                <a:latin typeface="Arial"/>
              </a:rPr>
              <a:t>Решатель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— программа, моделирующая ход рассуждений эксперта на основании знаний, имеющихся в БЗ. Синонимы: </a:t>
            </a:r>
            <a:r>
              <a:rPr b="0" i="1" lang="en-US" sz="2700" spc="-1" strike="noStrike">
                <a:solidFill>
                  <a:srgbClr val="99cc00"/>
                </a:solidFill>
                <a:latin typeface="Arial"/>
              </a:rPr>
              <a:t>дедуктивная машина, машина вывода, блок логического вывода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cc00"/>
                </a:solidFill>
                <a:latin typeface="Arial"/>
              </a:rPr>
              <a:t>Подсистема объяснений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— программа, позволяющая пользователю получить ответы на вопросы: «</a:t>
            </a:r>
            <a:r>
              <a:rPr b="0" lang="en-US" sz="2700" spc="-1" strike="noStrike">
                <a:solidFill>
                  <a:srgbClr val="99cc00"/>
                </a:solidFill>
                <a:latin typeface="Arial"/>
              </a:rPr>
              <a:t>Как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была получена та или иная рекомендация?» и «</a:t>
            </a:r>
            <a:r>
              <a:rPr b="0" lang="en-US" sz="2700" spc="-1" strike="noStrike">
                <a:solidFill>
                  <a:srgbClr val="99cc00"/>
                </a:solidFill>
                <a:latin typeface="Arial"/>
              </a:rPr>
              <a:t>Почему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система приняла такое решение?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сновны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вопрос «как»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— это трассировка всего процесса получения решения с всех шагов цепи умозаключе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r>
              <a:rPr b="0" lang="en-US" sz="3100" spc="-1" strike="noStrike">
                <a:solidFill>
                  <a:srgbClr val="99cc00"/>
                </a:solidFill>
                <a:latin typeface="Arial"/>
              </a:rPr>
              <a:t>вопрос «почему»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— ссылка на умозаключение, непосредственно предшествовавшее полученному решению, то есть отход на один шаг назад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Основные термин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99cc00"/>
                </a:solidFill>
                <a:latin typeface="Arial"/>
              </a:rPr>
              <a:t>Интеллектуальный редактор БЗ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ограмма, представляющая инженеру по знаниям возможность создавать БЗ в диалоговом режиме. Включает в себя систему вложенных меню, шаблонов языка представления знаний, подсказок («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» — режим)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9cc00"/>
                </a:solidFill>
                <a:latin typeface="Arial Black"/>
              </a:rPr>
              <a:t>Классификация систем, основанных на знаниях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24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47Z</dcterms:created>
  <dc:creator>Elena</dc:creator>
  <dc:description/>
  <dc:language>en-US</dc:language>
  <cp:lastModifiedBy>Elena</cp:lastModifiedBy>
  <dcterms:modified xsi:type="dcterms:W3CDTF">2010-12-04T11:28:36Z</dcterms:modified>
  <cp:revision>4</cp:revision>
  <dc:subject/>
  <dc:title>Слайд 1</dc:title>
</cp:coreProperties>
</file>