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537-76AA-4A5B-9533-A2D1004F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F85-8B4A-46F8-8A55-B22DA2ED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68B-84DF-40E5-B987-7EE324B4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C97-600C-48A6-B5FD-6B227DF6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936D-1347-44C3-8DD7-1C04EA77B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58E2-529A-4A36-88E2-CD45B77E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DB2C-3C8B-4370-A4B4-836D82F3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9EBA-381C-4D8B-A9EB-4B9D0D8A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193D-6FAB-4C03-9695-5587A63A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8607-1C38-43F1-A011-0D6F6460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D9E9-DB33-4765-BF77-6EC6465E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1C8-58E9-4361-B2CC-A90924CA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3DF9-9AD6-4559-B268-3E8E313A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483A-48D4-436E-A3EC-4F69A9BC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CA8A-B70C-4384-B42D-B27C508A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E206-80B9-4C0B-BC34-36633B79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0205-3F9D-4079-8735-8F3A3F9D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1E4-FB33-4C59-A399-4F4D46DB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F20-310B-4A3F-89A1-EDC0871F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C19-EB00-4689-BDDD-65040C50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F49-031B-4AFA-8B30-D3B89D96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E6D-5342-49F1-933F-F700EC42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DCD-7B89-45F8-8DB4-AD8192ED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5AE-D2C5-46C9-872B-A12E9A6B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2241-FF39-4CD5-80E4-923C0F0B71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9EC5-EB1D-407C-8930-CD85767B5B9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Нейронные сети</a:t>
            </a:r>
            <a:br>
              <a:rPr sz="5400"/>
            </a:b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Модель мозг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кция 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теллектуаль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он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ежим распознав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ъявляем сети различные букв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мы предъявим случайно искаженную и даже зашумленную букву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конечно, в допустимых пределах), сеть ее с большой вероятностью распознает, т. е. максимально возбудится соответствующий нейрон выходного сло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ширим функцию входного слоя, связав его с некоторыми характеристиками исходной ситуации (входного вектора), по которой необходимо принимать решение — формировать выходной вектор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гда сеть обучается по эталонным ситуациям, решение которых известно, а затем в рабочем режиме выдает решение во всем диапазоне ситуаций и при этом автоматически определяет, на какую «знакомую» ситуацию более всего похожа введенная и, следовательно, какое решение надо приня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рименение нейронных сете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меры задач, решаемых с помощью нейронных сет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рогнозирование на фондовом рынк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Зная цены акций за последнюю неделю и сегодняшнее значение индекса FTSE, спрогнозировать завтрашнюю цену акц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Предоставление кредита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Требуется определить, высок ли риск предоставления кредита частному лицу, обратившемуся с такой просьбой. В результате разговора с ним известен его доход, предыдущая кредитная история и т.д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Управлени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ужно определить что должен делать робот (повернуться направо или налево, двигаться вперед и т.д.), чтобы достичь цели; известно изображение, которое передает установленная на роботе видеокаме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обенности применения нейронных сетей для решения зада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ть можно применять в ситуации, когда у Вас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имеется определенная известная информа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и Вы хотите из нее получить некоторую пока неизвестную информацию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 должны знать (или хотя бы иметь серьезные подозрения), что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между известными входными значениями и неизвестными выходами имеется связ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8480" y="334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Процесс обучения нейронной се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cc"/>
                </a:solidFill>
                <a:latin typeface="Times New Roman"/>
              </a:rPr>
              <a:t>Алгоритмы обучения нейронной сети</a:t>
            </a:r>
            <a:endParaRPr b="1" lang="en-US" sz="3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учение с учите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готавливается набор обучающих данных. Эти данные представляют собой примеры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входных данны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соответствующих им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выход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Сеть учится устанавливать связь между первыми и вторыми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йронная сеть обучается с помощью того или иного алгоритма управляемого обучения, при котором имеющиеся данные используются для корректировки весов и пороговых значений сети таким образом, чтобы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минимизировать ошибку прогноз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на обучающем множеств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учение без учите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учающие данные содержат только значения входных переменны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ть учится распознавать внутреннюю структуру данны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бор данных для нейронной се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ебования к обучающему множеству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ножество не должно содержать всплесков – элементы, свойства которых отличаются от ожидаемых значе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лементы множества должны быть репрезентативн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учающая выборка должна быть в несколько раз больше общего количества весовых связей в сет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ные требования*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бор данных для нейронной се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ые вопро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ие свойства и признаки объекта исследования брать в качестве входных значени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одить ли перевод из одной шкалы в другую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одить ли нормировку (масштабирование) значений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колько наблюдений необходимо иметь для обучения сет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делать с недостоверными данными (шумы, аномалии, пропуски)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Сбор данных для нейронной се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во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ирайте такие переменные, которые, как Вы предполагаете, влияют на результа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числовыми и номинальными переменными можно работать непосредственно*. Переменные других типов следует преобразовать в указанные типы или объявить незначащи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м больше в задаче переменных, тем больше нужно иметь наблюден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лучае необходимости можно работать с наблюдениями, содержащими пропущенные значения. Если возможно, удалите выбросы. Если данных достаточное количество, уберите из рассмотрения наблюдения с пропущенными значения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оделирование ситуации на изображение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дель моз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62012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лементы нейросе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лы — аналоги нервных клеток —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ейронов (нейроподобных элементов, НПЭ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единения узлов —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инапсические связ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дель нейро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означения в модели нейрон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k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нергетические доли импульсов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работанных другими нейронами и поступивших на дендриты нейрон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ω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k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- веса дендрит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- пороги. В свою очередь, выработанный импульс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i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же распространяется по дендритам нейронов, с которыми связан нейрон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 помощью ветвящегося аксон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щие заметки-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ждый нейрон управляе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изв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 принципу самоуправления с помощью обратных связ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лежат регуляци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начени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есов синапсических связ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значени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рогов hj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ое регулиров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определяет возможность обучения и самообучения сети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 задает пути прохождения возбуждений через сеть, формируя связи «посылка — следствие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рагмент нейросет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781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р алгоритма обуч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йросеть предназначена для распознавания рукописного текст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Тогда входной слой функционирует аналогично сетчатке глаза, которая воспринимает изображение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едположим, на входной слой подан и поддерживается некоторый эталон, например буква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го подача на входной слой возбуждает в некоторой конфигурации множество нейронов — рецепторов. Спустя определенное время максимально возбудится некоторый нейрон выходного сло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крепим этот нейрон за буквой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А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.е. его возбужденное состояние будем воспринимать как ответ: </a:t>
            </a: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«Это буква </a:t>
            </a:r>
            <a:r>
              <a:rPr b="0" i="1" lang="ru-RU" sz="1600" spc="-1" strike="noStrike">
                <a:solidFill>
                  <a:srgbClr val="ffff00"/>
                </a:solidFill>
                <a:latin typeface="Times New Roman"/>
              </a:rPr>
              <a:t>А».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нова введем букву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А,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 с естественными искажениями, обусловленными почерком, дрожанием руки и т.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можно максимально возбудится тот же нейрон, а возможно — друго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ы же хотим «научить» систему, заставить ее ответить, что это - тоже буква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, т.е. добиться максимального возбуждения того же нейрона выходного сло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обходимо изменить веса и, возможно, пороги в сети на пути прохождения возбуждения так, чтобы заставить возбудиться нужный нейрон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Такая настройка сети является основным, наиболее важным элементом ее обучением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щие заметки-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дендритам может передаваться как возбуждающее, так и тормозящее воздействие. Первое может соответствовать положительному значению веса синапсической связи, второе — отрицательном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сети распознают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ходной (рецепторный) слой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ринимающий внешние возбуждения (на который, например, подается видеоизображение),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ыходной слой,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яющий решение задач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ть работает в двух режимах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ежиме обучени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ежиме распознавания (рабочем режим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0:52:37Z</dcterms:created>
  <dc:creator>Elena</dc:creator>
  <dc:description/>
  <dc:language>en-US</dc:language>
  <cp:lastModifiedBy>Елена</cp:lastModifiedBy>
  <dcterms:modified xsi:type="dcterms:W3CDTF">2013-11-19T12:00:08Z</dcterms:modified>
  <cp:revision>4</cp:revision>
  <dc:subject/>
  <dc:title>Нейронные сети Модель мозга</dc:title>
</cp:coreProperties>
</file>