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13B-B868-4129-9CB4-26DC190B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F91B-A3D6-4FDF-B0B8-C010BD1B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502-A6B6-4AE3-8891-814BA75F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E31-D210-433B-BC23-A6E4A477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B7EB-2E12-46B9-8CD3-DEB2A304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BE59-2D20-43AF-AC4B-D8D8713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BBB1-0EEF-49E0-8335-3DDFDF00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2519-D596-412F-9BEB-0FBBDBBB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72D0-9EBB-442A-A8B7-681003B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F08-841C-44E2-8822-3BEA543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DF16-1C99-4A10-BBD7-D65271C0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8AD-B813-4B50-B8AB-7A6CEA2B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E9C-986E-4DAA-9245-EA95F17C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239D-60E2-4AAC-8724-4264639D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9169-412D-4C21-AFC6-6861102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95DD-21C7-4A5A-AE8B-4A9D68F0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610F-1235-44D1-B149-D4C0AADD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362-1CAE-41FD-B9AD-1E736CA0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0FC-02B9-412F-905F-55E421C0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34A-966A-4264-B5B9-E78701BB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2E1-E072-4A98-B9E3-FA44B98E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B264-F096-4A0E-8E4A-3AE2F86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8A4-CE50-4ACA-AE05-D0DC5BE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719-0A5C-4F8B-AE3D-A72BBA33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9AB-A3C1-44A7-A012-3BA2987DF0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643E-BE2A-4502-920A-8DAC692DBA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 mining-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Методы и стадии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Data M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Классификация стадий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Data Mining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ata Mining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ожет состоять из двух или трех стадий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адия 1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Выявление закономерностей (свободный поиск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адия 2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Использование выявленных закономерностей для предсказания неизвестных значений (прогностическое моделирование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дополнение к этим стадиям иногда вводят стадию валидации, следующую за стадией свободного поиска. Цель валидации - проверка достоверности найденных закономерностей. Однако, мы будем считать валидацию частью первой стадии, поскольку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реализации многих методов, в частности, нейронных сетей и деревьев решений, предусмотрено деление общего множества данных на обучающее и проверочное, и последнее позволяет проверять достоверность полученных результатов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адия 3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. Анализ исключений - стадия предназначена для выявления и объяснения аномалий, найденных в закономерностя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1. Свободный поиск (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iscovery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 стадии свободного поиска осуществляется исследование набора данных с целью поиска скрытых закономерностей. Предварительные гипотезы относительно вида закономерностей здесь не определяютс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Закономерность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aw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 - существенная и постоянно повторяющаяся взаимосвязь, определяющая этапы и формы процесса становления, развития различных явлений или процесс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ata Mining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 этой стадии определяет шаблоны, для получения которых в системах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LAP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, например, аналитику необходимо обдумывать и создавать множество запросов. Здесь же аналитик освобождается от такой работы - шаблоны ищет за него система. Особенно полезно применение данного подхода в сверхбольших базах данных, где уловить закономерность путем создания запросов достаточно сложно, для этого требуется перепробовать множество разнообразных вариант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вободный поиск представлен такими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действиями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явление закономерностей условной логики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ditional logic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явление закономерностей ассоциативной логики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ssociations and affinities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ыявление трендов и колебаний 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rends and variations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р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Имеется база данных кадрового агентства с данными о профессии, стаже, возрасте и желаемом уровне вознаграждения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В случае самостоятельного задания запросов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аналитик может получить приблизительно такие результаты: средний желаемый уровень вознаграждения специалистов в возрасте от 25 до 35 лет равен 1200 условных единиц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Verdana"/>
              </a:rPr>
              <a:t>В случае свободного поиска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система сама ищет закономерности, необходимо лишь задать целевую переменную. В результате поиска закономерностей система сформирует набор логических правил "если ..., то ..."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Могут быть найдены, например, такие закономерности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возраст &lt; 20 лет и желаемый уровень вознаграждения &gt; 700 условных единиц, то в 75% случаев соискатель ищет работу программиста"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возраст &gt;35 лет и желаемый уровень вознаграждения &gt; 1200 условных единиц, то в 90% случаев соискатель ищет руководящую работу"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Целевой переменной в описанных правилах выступает профессия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При задании другой целевой переменной, например, возраста, получаем такие правила: "</a:t>
            </a: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Если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соискатель ищет руководящую работу и его стаж &gt; 15 лет, то возраст соискателя &gt; 35 лет в 65 % случаев"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анные действия, в рамках стадии свободного поиска, выполняются при помощи 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дукции правил условной логики (задачи классификации и кластеризации, описание в   компактной форме близких или схожих групп объектов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дукции правил ассоциативной логики (задачи ассоциации и последовательности и извлекаемая при их помощи информация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ения трендов и колебаний (исходный этап задачи прогнозирования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 стадии свободного поиска также должна осуществляться валидация закономерностей, т.е. проверка их достоверности на части данных, которые не принимали участие в формировании закономерностей.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. Прогностическое моделирование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dictive Modeling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торая стадия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ata Mining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- прогностическое моделирование - использует результаты работы первой стадии. Здесь обнаруженные закономерности используются непосредственно для прогнозиров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огностическое моделирование включает такие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ействия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едсказание неизвестных значений (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utcome prediction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огнозирование развития процессов (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recasting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процессе прогностического моделирования решаются задачи классификации и прогнозиров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 решении задачи классификации результаты работы первой стадии (индукции правил) используются для отнесения нового объекта, с определенной уверенностью, к одному из известных, предопределенных классов на основании известных значени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 решении задачи прогнозирования результаты первой стадии (определение тренда или колебаний) используются для предсказания неизвестных (пропущенных или же будущих) значений целевой переменной (переменных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име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Зная, что соискатель ищет руководящую работу и его стаж &gt; 15 лет, на 65 % можно быть уверенным в том, что возраст соискателя &gt; 35 лет. Или же, если возраст соискателя &gt; 35 лет и желаемый уровень вознаграждения &gt; 1200 условных единиц, на 90% можно быть уверенным в том, что соискатель ищет руководящую работ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равнение свободного поиска и прогностического моделирования с точки зрения лог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Свободный поиск раскрывает общие закономерности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. Он по своей природе индуктивен. Закономерности, полученные на этой стадии, формируются от частного к общему.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В результате мы получаем </a:t>
            </a:r>
            <a:r>
              <a:rPr b="1" lang="ru-RU" sz="1300" spc="-1" strike="noStrike">
                <a:solidFill>
                  <a:srgbClr val="000000"/>
                </a:solidFill>
                <a:latin typeface="Verdana"/>
              </a:rPr>
              <a:t>некоторое общее знание о некотором классе объектов на основании исследования отдельных представителей этого класса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Правило: "Если возраст соискателя &lt; 20 лет и желаемый уровень вознаграждения &gt; 700 условных единиц, то в 75% случаев соискатель ищет работу программиста"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основании частного, т.е. информации о некоторых свойствах класса "возраст &lt; 20 лет" и "желаемый уровень вознаграждения &gt; 700 условных единиц", мы делаем вывод об общем, а именно: соискатели - программисты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Verdana"/>
              </a:rPr>
              <a:t>Прогностическое моделирование, напротив, дедуктивно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. Закономерности, полученные на этой стадии, формируются от общего к частному и единичному. Здесь мы получаем новое знание о некотором объекте или же группе объектов на основании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знания класса, к которому принадлежат исследуемые объекты;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знание общего правила, действующего в пределах данного класса объектов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Знаем, что соискатель ищет руководящую работу и его стаж &gt; 15 лет, на 65% можно быть уверенным в том, что возраст соискателя &gt; 35 лет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На основании некоторых общих правил, а именно: цель соискателя - руководящая работа и его стаж &gt; 15 лет, мы делаем вывод о единичном - возраст соискателя &gt; 35 лет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Анализ исключений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ensic analysis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 третьей стадии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ata Mining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анализируются исключения или аномалии, выявленные в найденных закономерностя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Действие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, выполняемое на этой стадии, - выявление отклонений (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viation detection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). Для выявления отклонений необходимо определить норму, которая рассчитывается на стадии свободного поис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ернемся к одному из примеров, рассмотренному выш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йдено правило "Если возраст &gt; 35 лет и желаемый уровень вознаграждения &gt; 1200 условных единиц, то в 90 % случаев соискатель ищет руководящую работу".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озникает вопрос - к чему отнести оставшиеся 10 % случаев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Здесь возможно два варианта. Первый из них - существует некоторое логическое объяснение, которое также может быть оформлено в виде правила. Второй вариант для оставшихся 10% - это ошибки исходных данных. В этом случае стадия анализа исключений может быть использована в качестве очистки данны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Verdana"/>
              </a:rPr>
              <a:t>Классификация методов 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Data M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Форматы хранения данных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сновная особенность данных современного мира состоит в том, что их становится очень много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зможны четыре аспекта работы с данными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пределение данных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ычисление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нипулирование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бработка (сбор, передача и др.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ольшинство инструментов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a Mining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зволяют импортировать данные из различных источников, а также экспортировать результирующие данные в различные формат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анные для экспериментов удобно хранить в каком-то одном формате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Непосредственное использование данных, или сохранение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В этом случае исходные данные хранятся в явном детализированном виде и непосредственно используются на стадиях прогностического моделирования и/или анализа исключений. Проблема этой группы методов - при их использовании могут возникнуть сложности анализа сверхбольших баз данных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етоды этой группы: кластерный анализ, метод ближайшего соседа, метод k-ближайшего соседа, рассуждение по аналоги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Выявление и использование формализованных закономерностей, или дистилляция шаблон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технологии дистилляции шаблонов один образец (шаблон) информации извлекается из исходных данных и преобразуется в некие формальные конструкции, вид которых зависит от используемого метод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ta Min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Этот процесс выполняется на стадии свободного поиска, у первой же группы методов данная стадия в принципе отсутствует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 стадиях прогностического моделирования и анализа исключений используются результаты стадии свободного поиска, они значительно компактнее самих баз данных. Напомним, что конструкции этих моделей могут быть трактуемыми аналитиком либо нетрактуемыми ("черными ящиками"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тоды этой группы: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логические методы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 методы визуализации; </a:t>
            </a:r>
            <a:r>
              <a:rPr b="0" lang="ru-RU" sz="1900" spc="-1" strike="noStrike">
                <a:solidFill>
                  <a:srgbClr val="cc0000"/>
                </a:solidFill>
                <a:latin typeface="Verdana"/>
              </a:rPr>
              <a:t>методы кросс-табуляции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 методы, основанные на уравнен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Логические методы, или методы логической индукци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К ним относятся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ечеткие запросы и анализы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имвольные правила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деревья решений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енетические алгоритм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Методы этой группы являются, пожалуй, наиболее интерпретируемыми - они оформляют найденные закономерности, в большинстве случаев, в достаточно прозрачном виде с точки зрения пользовател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олученные правила могут включать непрерывные и дискретные переменные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кросс-табуляци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генты, баесовские (доверительные) сети, кросс-табличная визуализация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следний метод не совсем отвечает одному из свойств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Mining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самостоятельному поиску закономерностей аналитической системой. Однако, предоставление информации в виде кросс-таблиц обеспечивает реализацию основной задачи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Mining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- поиск шаблонов, поэтому этот метод можно также считать одним из методов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Mining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Опрос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"Форматы хранения данных"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19360" y="2173320"/>
            <a:ext cx="56941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Базы данных. Основные полож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База данных 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atabase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) - это особым образом организованные и хранимые в электронном виде данны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Целью создания баз данных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является построение такой системы данных, которая бы не зависела от программного обеспечения, применяемых технических средств и физического расположения данных в ЭВМ.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аза данных в простейшем случае представляется в виде системы двумерных таблиц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хема данных - описание логической структуры данных, специфицированное на языке описания данных и обрабатываемое СУБД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хема пользователя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- зафиксированный для конкретного пользователя один вариант порядка полей табли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СУБД – основные понят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- это программное обеспечение, контролирующее организацию, хранение, целостность, внесение изменений, чтение и безопасность информации в базе данны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СУБД (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atabase Management System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BMS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) представляет собой оболочку, с помощью которой при организации структуры таблиц и заполнения их данными получается та или иная база данны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истема управления 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еляционными базами данных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lational Database Management System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 - это СУБД, основанная на реляционной модели данны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еляционной модели данных любое представление данных сводится к совокупности реляционных таблиц (двумерных таблиц особого типа). Системы управления реляционными базами данных используются для построения хранилищ данны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СУБД – основные понят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УБД имеет программные, технические и организационные составляющи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ограммные средства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ключают систему управления, обеспечивающую ввод-вывод, обработку и хранение информации, создание, модификацию и тестирование базы данных. Внутренними языками программирования СУБД являются языки четвертого поколения (C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++ и др.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. С помощью языков БД создаются приложения, базы данных и интерфейс пользователя, включающий экранные формы, меню, отчет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ля работы с конкретной базой данных, в том числе с целью анализа, аналитику желательно знать описание всех таблиц и их структур (атрибутов, типов данных), количество записей в таблице, а также связи между таблицами. Иногда для этих целей используется словарь данны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лассификация видов данны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Реляционные данны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это данные из реляционных баз (таблиц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Многомерные данны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это данные, представленные в кубах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LAP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Измерение (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dimension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) или ось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в многомерных данных - это собрание данных одного и того же типа, что позволяет структурировать многомерную базу да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 критерию постоянства своих значений в ходе решения задачи данные могут быть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еременны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стоянными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условно-постоянны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еременные данны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это такие данные, которые изменяют свои значения в процессе решения задач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стоянные данны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это такие данные, которые сохраняют свои значения в процессе решения задачи (математические константы, координаты неподвижных объектов) и не зависят от внешних фактор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Условно-постоянные данны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это такие данные, которые могут иногда изменять свои значения, но эти изменения не зависят от процесса решения задачи, а определяются внешними факторами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лассификация видов данны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Данные, в зависимости от тех функций, которые они выполняют, могут быть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справочными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оперативными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архивными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Следует различать данные за период и точечные данные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Данные за период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характеризуют некоторый период времени. Примером данных за период могут быть: прибыль предприятия за месяц, средняя температура за месяц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Точечные данные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представляют значение некоторой переменной в конкретный момент времени. Пример точечных данных: остаток на счете на первое число месяца, температура в восемь часов утр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Данные бывают первичными и вторичны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Вторичные данные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- это данные, которые являются результатом определенных вычислений, примененных к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первичным данным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. Вторичные данные, как правило, приводят к ускоренному получению ответа на запрос пользователя за счет увеличения объема хранимой информации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Классификация видов данных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Метаданные (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Metadata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это данные о дан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состав метаданных могут входить: каталоги, справочники, реестры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етаданные содержат сведения о составе данных, содержании, статусе, происхождении, местонахождении, качестве, форматах и формах представления, условиях доступа, приобретения и использования, авторских, имущественных и смежных с ними правах на данные и др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зличают бизнес-метаданные и оперативные метаданные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Бизнес-метаданны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содержат бизнес-термины и определения, принадлежность данных и правила оплаты услуг хранилищ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Оперативные метаданные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- это информация, собранная во время работы хранилища данных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происхождение перенесенных и преобразованных данных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статус использования данных (активные, архивированные или удаленные)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       данные мониторинга, такие как статистика использования, сообщения об ошибках и т.д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етаданные хранилища обычно размещаются в репозитории. Это позволяет использовать метаданные совместно различным инструментам, а также процессам при проектировании, установке, эксплуатации и администрировании хранилища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9:50:24Z</dcterms:created>
  <dc:creator>Elena</dc:creator>
  <dc:description/>
  <dc:language>en-US</dc:language>
  <cp:lastModifiedBy>Elena</cp:lastModifiedBy>
  <dcterms:modified xsi:type="dcterms:W3CDTF">2012-03-27T11:13:35Z</dcterms:modified>
  <cp:revision>2</cp:revision>
  <dc:subject/>
  <dc:title>Data mining-2</dc:title>
</cp:coreProperties>
</file>