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851-55AC-44AB-BAC1-A3D5391D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27C-84CE-4B74-A84D-A43F7CE5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EA9-AF6C-4E39-8B07-58D24EF0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D25-C3CC-4FAF-A5F8-4219DC1A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C0B6-5690-4637-9AC8-F7FE50F6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5EDD-2A80-40D2-8028-52037A2D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BF47-4E59-43CA-9B13-87B78A59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3C18-4DB1-41E9-A094-F20ABABD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C6A2-D93F-4234-AF72-91D11488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2733-D82C-4BDC-A8F4-5C6C09CE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8D1A-3057-4D1A-AE18-39495AF8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EB1A-BBE4-432D-B85B-07D54515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ADE5-A55A-4748-9044-B4683B27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0945-FD18-414C-92E7-C3C99B6F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4A7A-AC1A-4BE5-B5F8-E2E6183B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8F3B-1A10-4F2E-AD06-D3CC2E84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56D6-E855-4F79-9E81-E0675A44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D7D-A587-428C-946B-C232E012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5F0-AF34-468E-82F2-CB4ED285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52D-859D-480E-AA75-85C5E58E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9D8-3BA7-4F9A-883C-B2C298C8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F04-15D4-4902-9C5E-D162B6DD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6A3-76B7-45F7-BAB3-6A9F1B3B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12B-97AD-41FC-A142-8C835171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96FF-B407-45B3-8B64-AB13841956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2427-ED50-401E-9B6C-E353D2ADC5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cc00"/>
                </a:solidFill>
                <a:latin typeface="Garamond"/>
              </a:rPr>
              <a:t>Теоретические аспекты инженерии знаний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Лекция 7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нтеллектуаль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Семант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56108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1-я трансляция (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i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осприятие и интерпретация действительности </a:t>
            </a:r>
            <a:r>
              <a:rPr b="0" i="1" lang="ru-RU" sz="2800" spc="-1" strike="noStrike">
                <a:solidFill>
                  <a:srgbClr val="99cc00"/>
                </a:solidFill>
                <a:latin typeface="Verdana"/>
              </a:rPr>
              <a:t>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метной области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g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м эксперт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Результа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в памяти эксперта) образуется модель </a:t>
            </a:r>
            <a:r>
              <a:rPr b="0" i="1" lang="en-US" sz="2800" spc="-1" strike="noStrike">
                <a:solidFill>
                  <a:srgbClr val="99cc00"/>
                </a:solidFill>
                <a:latin typeface="Verdana"/>
              </a:rPr>
              <a:t>M</a:t>
            </a:r>
            <a:r>
              <a:rPr b="0" i="1" lang="en-US" sz="2000" spc="-1" strike="noStrike">
                <a:solidFill>
                  <a:srgbClr val="99cc00"/>
                </a:solidFill>
                <a:latin typeface="Verdana"/>
              </a:rPr>
              <a:t>gj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семантическая репрезентация действительности и его личного опыта по работе с не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2-я трансляция (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V</a:t>
            </a:r>
            <a:r>
              <a:rPr b="0" lang="en-US" sz="2800" spc="-1" strike="noStrike">
                <a:solidFill>
                  <a:srgbClr val="999900"/>
                </a:solidFill>
                <a:latin typeface="Garamond"/>
              </a:rPr>
              <a:t>j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ербализация опыта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-г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экспер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когда он пытается объяснить свои 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рассуждения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 передать свои 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знания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Z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нженеру по знания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Результа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уется либо текст 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Т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либо речевое сообщение 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3-я трансляция (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j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осприятие и интерпретация 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сообщений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или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м инженером по знани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Verdana"/>
              </a:rPr>
              <a:t>Результат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амяти инженера по знаниям образуется 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модель мира М</a:t>
            </a: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gj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4-я трансляция (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j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кодирование и вербализация 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модели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99cc00"/>
                </a:solidFill>
                <a:latin typeface="Verdana"/>
              </a:rPr>
              <a:t>gj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форме 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поля знаний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ij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Z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g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Пример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ьность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: два человека прибегают на вокзал за 2 минуты до отхода поезда. В кассы — очередь. В автоматических кассах свободно, но ни у того, ни у другого нет мелочи. Следующий поезд через 40 минут. Оба опаздывают на важную встреч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Verdana"/>
              </a:rPr>
              <a:t>Интерпретация 1-го эксперта (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cc9900"/>
                </a:solidFill>
                <a:latin typeface="Verdana"/>
              </a:rPr>
              <a:t>,): нельзя приходить на вокзал менее чем за 10 мину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 2-го эксперта (12): надо всегда иметь мелочь в карман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Verdana"/>
              </a:rPr>
              <a:t>Вербализация 1-го эксперта (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V</a:t>
            </a:r>
            <a:r>
              <a:rPr b="0" lang="ru-RU" sz="2400" spc="-1" strike="noStrike">
                <a:solidFill>
                  <a:srgbClr val="cc9900"/>
                </a:solidFill>
                <a:latin typeface="Verdana"/>
              </a:rPr>
              <a:t>,): опоздал к нужному поезду, так как не рассчитал врем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рбализация 2-го эксперта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): опоздал, так как на вокзале неразбериха, в кассах толп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Прагмат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рактические аспекты разработки и использования по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о есть как от хаоса черновиков и стенограмм сеансов извлечения знаний перейти к стройной или хотя бы ясной модел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Инженерия зна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олодое направление искусственного интеллекта, появившееся тогда, когда практические разработчики столкнулись с весьма нетривиальными проблемами трудности «добычи» и формализации знан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Поле знаний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PZ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условное неформальное описание основных поняти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и взаимосвязей между понятиями предметной области, выявленных из системы знаний эксперта, в виде графа, диаграммы, таблицы или текс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формируется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а  стадии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структурирова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Семиот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7433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Семиотическая модель поля знаний</a:t>
            </a:r>
            <a:br>
              <a:rPr sz="2800"/>
            </a:b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Структура поля знаний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33560" y="1461960"/>
            <a:ext cx="34768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Синтаксис.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 = 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М)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— структура исходных данных, подлежащих обработке и интерпретации в экспертной систе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 — структура выходных данных, то есть результата работы систе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 — операциональная модель предметной области, на основании которой происходит модификац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Концептуальная модель - понятийная структура предметной области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k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Функциональная структура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f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, моделирует схему рассуждений эксперт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6551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Структура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f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 понятия предметной области А и моделирует основные функциональные связ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ли отношения между понятиями, образующими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k</a:t>
            </a:r>
            <a:r>
              <a:rPr b="0" lang="ru-RU" sz="2800" spc="-1" strike="noStrike">
                <a:solidFill>
                  <a:srgbClr val="99cc00"/>
                </a:solidFill>
                <a:latin typeface="Verdana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Эти связи отражают модель или стратегию принятия решения в выбранной ПО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0:29:23Z</dcterms:created>
  <dc:creator>Elena</dc:creator>
  <dc:description/>
  <dc:language>en-US</dc:language>
  <cp:lastModifiedBy>Elena</cp:lastModifiedBy>
  <dcterms:modified xsi:type="dcterms:W3CDTF">2011-11-09T12:24:13Z</dcterms:modified>
  <cp:revision>4</cp:revision>
  <dc:subject/>
  <dc:title>Теоретические аспекты инженерии знаний</dc:title>
</cp:coreProperties>
</file>