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26D-0C5D-479F-9BF0-9C2A0072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D7D-6172-4FD6-8636-CBBD4EC7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CF02-E2A4-4AD4-AD64-A16FA3D7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20D-2748-4AD4-BF19-85940187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5242-A3E0-41C9-8680-A15B9AB9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CB9F-2CF8-4ABD-84F9-DE2BBED8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E7F5-61E6-4D32-87ED-91B8AB8C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A3C4-4E09-4791-A64E-0E5E70A8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081D-9090-491E-B507-0820BFD2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F9CA-CB78-40B4-8F46-E535BAFE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1922-730E-4CCE-B471-B8B3A020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5AA-ACF7-4B27-8499-76AEBD0E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4E48-49E1-46FF-85E7-F65B72DB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683F-852B-4A31-B4EF-B4959E87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A6D1-AEC6-4FC6-B01A-85C70BB9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743C-FEC2-410C-886A-7F02B608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D145-457F-469F-96BC-1F1C5878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D9C-30D6-4BC0-8137-F0F6DE67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77F-4C25-4986-AF9A-0496BF6B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7FC-1A0B-4F1A-9103-ED312809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B92-799B-45DD-9453-4022AD42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2D6-8588-4FA2-A5DC-B39A5F86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EDD-56C8-47C5-9BBE-16AA5471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BF4-035A-49B6-BEF9-5E296642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0254-F9DE-4AD4-9338-DA15FA4850E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38A6-47B7-40F3-86FD-57AB955D15FE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Технология проектирования и разработки </a:t>
            </a:r>
            <a:br>
              <a:rPr sz="4800"/>
            </a:b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экспертной системы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кция 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ллектуаль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Работа на уровне 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Z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5 </a:t>
            </a:r>
            <a:br>
              <a:rPr sz="4000"/>
            </a:b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(база знаний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аствует вместе с программистом, подразумевает овладение практическими навыками работы на ПК и, возможно, одним из языков программир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ллектив разработчиков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96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ьзователь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ые слабые претенз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а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желюб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мение объяснить, что же он хочет от систе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 интерес к нов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некоторый базовый уровень квалификации, который позволит ему правильно истолковать рекомендации Э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ллектив разработчиков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96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сперт (его подготовка определяет уровень компетенции базы знаний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а) доброжелательность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готовность поделиться своим опыт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)умение объяснить (педагогические навыки)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а) высокий профессионализм в выбранной предметной обла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 знакомство с популярной литературой по искусственному интеллекту и ЭС для того, чтобы эффективнее прошел этап извлечения зн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ллектив разработчиков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96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ист (самая низкая потребностью в общен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а) общительност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способность отказаться от традиционных навыков и освоить новые метод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)интерес к разработ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а) опы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знакомство с основными структурами представления знаний и механизмами вывода, состоянием отечественного и мирового рынка программных продуктов для разработки ЭС и диалоговых интерфейс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Коллектив разработчиков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96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нженер по знания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малочисленная, высокооплачиваемая и дефицитная специальность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женер по знаниям имеет дело со всеми формами зн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(знания в памяти) —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(знания в книгах) —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(поле знаний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—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 (модель знаний) —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(база знаний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Работа на уровне 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Z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1 </a:t>
            </a:r>
            <a:br>
              <a:rPr sz="4000"/>
            </a:b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(знания в памяти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комство с элементами когнитивной психологии и способами репрезентации понятий и процессов в памяти человека, с двумя основными механизмами мышления — логическим и ассоциативны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игры, мозговой штурм и др., с различными моделями рассуждени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Работа на уровне 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Z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2 </a:t>
            </a:r>
            <a:br>
              <a:rPr sz="4000"/>
            </a:b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(знания в книгах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ение и анализ текст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комство с методами реферирования и аннотирования текстов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ладение навыками быстрого чтения, а также текстологическими методами извлечения зна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Работа на уровне 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Z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3 </a:t>
            </a:r>
            <a:br>
              <a:rPr sz="4000"/>
            </a:b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(поле знаний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комства с методологией представления знаний, системным анализом, теорией познания, аппаратом многомерного шкалирования, кластерным и факторным анализ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Работа на уровне 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Z</a:t>
            </a: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4 </a:t>
            </a:r>
            <a:br>
              <a:rPr sz="4000"/>
            </a:b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(модель знаний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ение аппарата математической логики и современных языков представления знан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1:28:56Z</dcterms:created>
  <dc:creator>Elena</dc:creator>
  <dc:description/>
  <dc:language>en-US</dc:language>
  <cp:lastModifiedBy>Лаврик</cp:lastModifiedBy>
  <dcterms:modified xsi:type="dcterms:W3CDTF">2016-11-16T11:29:58Z</dcterms:modified>
  <cp:revision>6</cp:revision>
  <dc:subject/>
  <dc:title>Технология проектирования и разработки  экспертной системы</dc:title>
</cp:coreProperties>
</file>