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755-574E-4E76-82C2-8220C6B7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6B2-E5D2-43D7-B75E-980C8B24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F70-77AB-4CDE-8D84-C9FF492B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E1B-D7B7-4121-9455-E5ABA6C64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AAE3-D813-4D18-B89E-33DDE744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FCB4-FE41-4079-ABD8-BA4B47F1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504-6341-4F6E-8043-C686C56A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2942-9C56-4865-9A81-10052064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CE8C-9AF7-421A-AFD6-01321744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E5C-C593-4C4E-B45E-522C3CE3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6DE6-B37C-4666-8346-CE5168C0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8BC-CD13-42FE-91C4-FB96F3E6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2EAF-7EB2-4AFD-84D6-F3F4761B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BA5D-3064-42DE-93CA-A3417072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6BA2-7008-4135-98DD-DFFB2E8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8F9-FEA1-4A5D-9764-4B693473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0FC9-6738-4A6D-8E5E-A7EF9E0D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459-4D6D-45F2-BFBB-36AFB917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D48-C13B-4B52-8050-F8DBCD2E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AAF-95DC-4696-AC61-38B08D25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DD6-5B7D-457C-BAA0-BC318B9D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EF3-F694-476E-8A40-FA6E54E5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449-1496-46A3-9135-FDFF9873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45D-8AD2-49D1-91C9-7542B8A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3C05-685C-45CF-97EC-7C44878823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166D-3ECA-41C2-BC8E-9D837ECBCB7B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uit.ru/department/database/datamining/2/datamining_2.html%23image.2.2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DATA MINING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Данные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широком понимании данные представляют собой факты, текст, графики, картинки, звуки, аналоговые или цифровые видео-сегменты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 могут быть получены в результате измерений, экспериментов, арифметических и логических операци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ные должны быть представлены в форме, пригодной для хранения, передачи и обработ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ыми словами, данные - это необработанный материал, предоставляемый поставщиками данных и используемый потребителями для формирования информации на основе данны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Verdana"/>
              </a:rPr>
              <a:t>Набор данных и их атрибутов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едставлена двухмерная таблица, представляющая собой набор данных.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2389320" y="1636560"/>
            <a:ext cx="43639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вторение терминов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638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о горизонтали таблицы располагаются атрибуты объекта или его признаки. По вертикали таблицы - объекты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ект описывается как набор атрибут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бъект также известен как запись, случай, пример, строка таблицы и т.д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трибут - свойство, характеризующее объект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Verdana"/>
              </a:rPr>
              <a:t>Например: цвет глаз человека, температура воды и т.д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Атрибут также называют переменной, полем таблицы, измерением, характеристик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результате операционализации понятий [6], т.е. перехода от общих категорий к конкретным величинам, получается набор переменных изучаемого понят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еременная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variable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) - свойство или характеристика, общая для всех изучаемых объектов, проявление которой может изменяться от объекта к объект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начени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value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) переменной является проявлением признак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 анализе данных, как правило, нет возможности рассмотреть всю интересующую нас совокупность объектов. Изучение очень больших объемов данных является дорогостоящим процессом, требующим больших временных затрат, а также неизбежно приводит к ошибкам, связанным с человеческим фактором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полне достаточно рассмотреть некоторую часть всей совокупности, то есть выборку, и получить интересующую нас информацию на ее основани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днако размер выборки должен зависеть от разнообразия объектов, представленных в генеральной совокупности. В выборке должны быть представлены различные комбинации и элементы генеральной совокупност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вторение терминов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Генеральная совокупность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opulation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) - вся совокупность изучаемых объектов, интересующая исследовател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борка (</a:t>
            </a:r>
            <a:r>
              <a:rPr b="1" lang="en-US" sz="1600" spc="-1" strike="noStrike">
                <a:solidFill>
                  <a:srgbClr val="006699"/>
                </a:solidFill>
                <a:latin typeface="Verdana"/>
              </a:rPr>
              <a:t>sample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- часть генеральной совокупности, определенным способом отобранная с целью исследования и получения выводов о свойствах и характеристиках генеральной совокупност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араметры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числовые характеристики генеральной совокупност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татистики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числовые характеристики выборк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асто исследования основываются на гипотезах.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Гипотеза - частично обоснованная закономерность знаний, служащая либо для связи между различными эмпирическими фактами, либо для объяснения факта или группы факт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ример гипотезы: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 между показателями продолжительности жизни и качеством питания есть связь. В этом случае целью исследования может быть объяснение изменений конкретной переменной, в данном случае - продолжительности жизни. Допустим, существует гипотеза, что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ависимая переменная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(продолжительность жизни) изменяется в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ависимости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т некоторых причин (качество питания, образ жизни, место проживания и т.д.), которые и являются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независимыми переменным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днако переменная изначально не является зависимой или независимой. Она становится таковой после формулировки конкретной гипотезы. Зависимая переменная в одной гипотезе может быть независимой в друго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змере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оцесс присвоения чисел характеристикам изучаемых объектов согласно определенному правил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В процессе подготовки данных измеряется не сам объект, а его характеристик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Шкала - правило, в соответствии с которым объектам присваиваются числа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ногие инструменты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Data Mining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 импорте данных из других источников предлагают выбрать тип шкалы для каждой переменной и/или выбрать тип данных для входных и выходных переменных (символьные, числовые, дискретные и непрерывные). Пользователю такого инструмента необходимо владеть этими понятия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еременные могут являться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числовыми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данными либо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имвольными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Числовые данные, в свою очередь, могут быть дискретными и непрерывны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искретные данны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являются значениями признака, общее число которых конечно либо бесконечно, но может быть подсчитано при помощи натуральных чисел от одного до бесконечност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мер дискретных данных. Продолжительность маршрута троллейбуса (количество вариантов продолжительности конечно): 10, 15, 25 ми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Непрерывные данны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данные, значения которых могут принимать какое угодно значение в некотором интервале. Измерение непрерывных данных предполагает большую точность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мер непрерывных данных: температура, высота, вес, длина и т.д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Шкал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Номинальная шкала (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</a:rPr>
              <a:t>nominal scale</a:t>
            </a: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) - шкала, содержащая только категории; данные в ней не могут упорядочиваться, с ними не могут быть произведены никакие арифметические действия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Номинальная шкала состоит из названий, категорий, имен для классификации и сортировки объектов или наблюдений по некоторому признаку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Пример такой шкалы: профессии, город проживания, семейное положение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Для этой шкалы применимы только такие операции: равно (=), не равно </a:t>
            </a:r>
            <a:r>
              <a:rPr b="0" i="1" lang="ru-RU" sz="900" spc="-1" strike="noStrike">
                <a:solidFill>
                  <a:srgbClr val="006699"/>
                </a:solidFill>
                <a:latin typeface="Verdana"/>
              </a:rPr>
              <a:t>()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Порядковая шкала (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</a:rPr>
              <a:t>ordinal scale</a:t>
            </a: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) - шкала, в которой числа присваивают объектам для обозначения относительной позиции объектов, но не величины различий между ними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Шкала измерений дает возможность ранжировать значения переменных. Измерения же в порядковой шкале содержат информацию только о порядке следования величин, но не позволяют сказать "насколько одна величина больше другой", или "насколько она меньше другой"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Пример такой шкалы: место (1, 2, 3-е), которое команда получила на соревнованиях, номер студента в рейтинге успеваемости (1-й, 23-й, и т.д.), при этом неизвестно, насколько один студент успешней другого, известен лишь его номер в рейтинге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Для этой шкалы применимы только такие операции: равно (=), не равно </a:t>
            </a:r>
            <a:r>
              <a:rPr b="0" i="1" lang="ru-RU" sz="900" spc="-1" strike="noStrike">
                <a:solidFill>
                  <a:srgbClr val="006699"/>
                </a:solidFill>
                <a:latin typeface="Verdana"/>
              </a:rPr>
              <a:t>(), 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больше (&gt;), меньше (&lt;)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Интервальная шкала (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</a:rPr>
              <a:t>interval scale</a:t>
            </a: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) - шкала, разности между значениями которой могут быть вычислены, однако их отношения не имеют смысла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Эта шкала позволяет находить разницу между двумя величинами, обладает свойствами номинальной и порядковой шкал, а также позволяет определить количественное изменение признака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Пример такой шкалы: температура воды в море утром - 19 градусов, вечером - 24, т.е. вечерняя на 5 градусов выше, но нельзя сказать, что она в 1,26 раз выше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Номинальная и порядковая шкалы являются дискретными, а интервальная шкала -непрерывной, она позволяет осуществлять точные измерения признака и производить арифметические операции сложения, вычитания, умножения, деления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Для этой шкалы применимы только такие операции: равно (=), не равно </a:t>
            </a:r>
            <a:r>
              <a:rPr b="0" i="1" lang="ru-RU" sz="900" spc="-1" strike="noStrike">
                <a:solidFill>
                  <a:srgbClr val="006699"/>
                </a:solidFill>
                <a:latin typeface="Verdana"/>
              </a:rPr>
              <a:t>(), 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больше (&gt;), меньше (&lt;), операции сложения (+) и вычитания (-)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Относительная шкала (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</a:rPr>
              <a:t>ratio scale</a:t>
            </a: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) - шкала, в которой есть определенная точка отсчета и возможны отношения между значениями шкалы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Пример такой шкалы: вес новорожденного ребенка (4 кг и 3 кг). Первый в 1,33 раза тяжелее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Цена на картофель в супермаркете выше в 1,2 раза, чем цена на базаре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Относительные и интервальные шкалы являются числовыми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Для этой шкалы применимы только такие операции: равно (=), не равно ( )</a:t>
            </a:r>
            <a:r>
              <a:rPr b="0" i="1" lang="ru-RU" sz="9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ru-RU" sz="900" spc="-1" strike="noStrike">
                <a:solidFill>
                  <a:srgbClr val="006699"/>
                </a:solidFill>
                <a:latin typeface="Verdana"/>
              </a:rPr>
              <a:t>больше (&gt;), меньше (&lt;), операции сложения (+) и вычитания (-), умножения (*) и деления (/)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Дихотомическая шкала (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</a:rPr>
              <a:t>dichotomous scale</a:t>
            </a:r>
            <a:r>
              <a:rPr b="1" lang="ru-RU" sz="900" spc="-1" strike="noStrike">
                <a:solidFill>
                  <a:srgbClr val="006699"/>
                </a:solidFill>
                <a:latin typeface="Verdana"/>
              </a:rPr>
              <a:t>) - шкала, содержащая только две категории.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ример использования разных шкал для измерений свойств различных объектов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Множество измерений свойств различных объектов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Множество измерений свойств одной системы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6134040" cy="1619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6096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44000" cy="44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Типы наборов данных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Данные, состоящие из записе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иболее часто встречающиеся данные - данные, состоящие из записей (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record data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) 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меры таких наборов данных: табличные данные, матричные данные, документальные данные, транзакционные или операционны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Табличные данны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данные, состоящие из записей, каждая из которых состоит из фиксированного набора атрибут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Транзакционные данны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едставляют собой особый тип данных, где каждая запись, являющаяся транзакцией, включает набор значени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пример транзакционной базы данных, содержащей перечень покупок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клиентов магазина, приведен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2700360" y="4724280"/>
            <a:ext cx="20890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Типы наборов данных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имеры графических данных: WWW-данные; молекулярные структуры; графы (</a:t>
            </a:r>
            <a:r>
              <a:rPr b="0" lang="ru-RU" sz="1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рис. 2.2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); карты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 помощью карт, например, можно отследить изменения объектов во времени и пространстве, определить характер их распределения на плоскости или в пространстве. Преимуществом графического представления данных является большая простота их восприятия, чем, например, табличных данны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Пример карты, являющейся картой Кохонена (моделью нейронных сетей)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Химические данны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Химические данные представляют собой особый тип данных. Пример таких данных: </a:t>
            </a: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Benzene Molecule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826920" y="1844640"/>
            <a:ext cx="1368720" cy="957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3"/>
          <a:stretch/>
        </p:blipFill>
        <p:spPr>
          <a:xfrm>
            <a:off x="1042920" y="3716280"/>
            <a:ext cx="2247840" cy="12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4"/>
          <a:stretch/>
        </p:blipFill>
        <p:spPr>
          <a:xfrm>
            <a:off x="1042920" y="5734080"/>
            <a:ext cx="21146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рмин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ata Min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лучил свое название из двух понятий: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иска ценной информации в большой базе данных (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data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) и добычи горной руды (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mining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часто переводится как добыча данных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звлечение информ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скопка данны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нтеллектуальный анализ данны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редства поиска закономерност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звлечение знан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скопка знаний в базах данны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"промывание" данны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явился в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1978 году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риобрел высокую популярность в современной трактовке примерно с первой половины 1990-х годов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Что же такое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Data Mining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- мультидисциплинарная область, возникшая и развивающаяся на базе таких наук как прикладная статистика, распознавание образов, искусственный интеллект, теория баз данных и др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1908000" y="3645000"/>
            <a:ext cx="475308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раткое описание дисциплин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нятие Статистики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татистика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то наука о методах сбора данных, их обработки и анализа для выявления закономерностей, присущих изучаемому явлению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татистика оперирует данными, полученными в результате наблюдений либо экспериментов. Одна из последующих глав будет посвящена понятию данных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нятие Машинного обучени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Машинное обучение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ожно охарактеризовать как процесс получения программой новых знаний. Митчелл в 1996 году дал такое определение: "Машинное обучение - это наука, которая изучает компьютерные алгоритмы, автоматически улучшающиеся во время работы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Одним из наиболее популярных примеров алгоритма машинного обучения являются нейронные сет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нятие Искусственного интеллекта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Искусственный интеллект 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научное направление, в рамках которого ставятся и решаются задачи аппаратного или программного моделирования видов человеческой деятельности, традиционно считающихся интеллектуальны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Соответственно, искусственный интеллект (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Artificial Intelligence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) толкуется как свойство автоматических систем брать на себя отдельные функции интеллекта человека.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Сравнение статистики, машинного обучения и </a:t>
            </a: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Data Mining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татисти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олее, чем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базируется на теори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олее сосредотачивается на проверке гипотез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ашинное обучен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олее эвристичн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центрируется на улучшении работы агентов обуч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нтеграция теории и эвристи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концентрирована на едином процессе анализа данных, включает очистку данных, обучение, интеграцию и визуализацию результатов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Понятие </a:t>
            </a: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Data Mining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цесс поддержки принятия решений, основанный на поиске в данных скрытых закономерностей (шаблонов информации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о процесс обнаружения в сырых данных ранее неизвестных, нетривиальных, практически полезных и доступных интерпретации знаний, необходимых для принятия решений в различных сферах человеческой деятельност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Суть и цель технологии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ta Mining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охарактеризовать так: это технология, которая предназначена для поиска в больших объемах данных неочевидных, объективных и полезных на практике закономерностей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Data Mining </a:t>
            </a: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как часть рынка информационных технологий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Агентство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artner Group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занимающееся анализом рынков информационных технологий, в 1980-х годах ввело термин "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usiness Intelligence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" (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I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), деловой интеллект или бизнес-интеллект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usiness Intelligence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- программные средства, функционирующие в рамках предприятия и обеспечивающие функции доступа и анализа информации, которая находится в хранилище данных, а также обеспечивающие принятие правильных и обоснованных управленческих решени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 algn="just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BI-системы также известны под названием Систем Поддержки Принятия Решений (СППР,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SS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cision Support System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).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Эти системы превращают данные в информацию, на основе которой можно принимать решения,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т.е. поддерживающую принятие решени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artner Group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ределяет состав рынка систем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usiness Intelligence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ак набор программных продуктов следующих классов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редства построения хранилищ данных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ta warehousing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ХД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истемы оперативной аналитической обработки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LAP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формационно-аналитические системы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nterprise Information Systems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EIS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редства интеллектуального анализа данных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нструменты для выполнения запросов и построения отчетов (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query and reporting tools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Перспективы технологии </a:t>
            </a:r>
            <a:r>
              <a:rPr b="1" i="1" lang="en-US" sz="4400" spc="-1" strike="noStrike">
                <a:solidFill>
                  <a:srgbClr val="006666"/>
                </a:solidFill>
                <a:latin typeface="Verdana"/>
              </a:rPr>
              <a:t>Data Min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деление типов предметных областей с соответствующими им эвристиками, формализация которых облегчит решение соответствующих задач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относящихся к этим областям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здание формальных языков и логических средств, с помощью которых будет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формализованы  рассуждения и автоматизация которых станет инструментом решения</a:t>
            </a:r>
            <a:br>
              <a:rPr sz="1800"/>
            </a:b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задач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конкретных предметных областях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здание методов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, способных не только извлекать из данных закономерности но и формировать некие теории, опирающиеся на эмпирические данные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еодоление существенного отставания возможностей инструментальных средств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от теоретических достижений в этой област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Если рассматривать будущее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ata Mining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 краткосрочной перспективе, то очевидно, что развитие этой технологии наиболее направлено к областям, связанным с бизнесом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48:49Z</dcterms:created>
  <dc:creator>Elena</dc:creator>
  <dc:description/>
  <dc:language>en-US</dc:language>
  <cp:lastModifiedBy>Елена Климова</cp:lastModifiedBy>
  <dcterms:modified xsi:type="dcterms:W3CDTF">2018-10-09T13:08:44Z</dcterms:modified>
  <cp:revision>6</cp:revision>
  <dc:subject/>
  <dc:title>DATA MINING</dc:title>
</cp:coreProperties>
</file>